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A2A-DBBF-4BBA-853B-60184D0A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F4C-D88A-455D-AF24-137EBC7F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746-921D-4391-B699-3885C304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49F-6BE1-403A-A2F3-E2906F08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C7A2-59BD-414E-B921-7F53D085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2BC6-9B79-4052-87FC-B3EE7EE8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B3B1-C6E3-48FD-9ECE-E71B32E9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B2BE-D128-40C5-9F02-D22362A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36B5-0588-458A-9B6E-C316D93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7265-64C5-4519-9B76-44862CFA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FE79-FF99-45E5-BB03-1A46B613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622-AF67-4D01-AF08-39951C7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3DB-358B-4245-9B0B-3B0F2C7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B417-11E3-4A47-9409-7B62ADB0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81D9-318E-4521-9A91-CEFF0173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337-87F8-4ABE-87DF-FFA7BB4D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131C-CEDE-4D86-A7DE-82F64E8D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246-56C7-433B-A0A0-F9B4D7E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312-C85A-4394-A97E-41F95A2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4E0-81F8-4797-AA6B-9B565A8D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0CE-E2C1-4CED-B8D7-B44070FC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3C0-84AC-4AFE-A7B3-4C3A307B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104-4772-45D9-9D0F-07579B8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6AA-45AC-4B76-A23A-E40D2D3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DC7-EB3E-406E-9D30-39F941944B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D4C-16B3-427E-9DAC-D13CC9E4809E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توجه الأُط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تقرير المبيعات السنوي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قتباس السنة الماض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تقدم هذه السن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أرقام المبيعات والمرتجع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مساهمة في الأربا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سنة الماض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360" y="2017800"/>
            <a:ext cx="330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بدأت المبيعات    بالإقلاع  بمنتجاتنا الجديدة برحلة       كبيرة خلال الربع  الثالث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حرزت المنتجات المطلقة التقدم         ببطء في          الأسوا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45120" y="201780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01780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سنة الحال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أدى التسويق و المبيعات إلى تنشيط إطلاق         المنتجا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إطلاق منتج جدي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بحث العميل عن جميع العملاء الحاليي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إعادة إطلاق مكافئات المبيعا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153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9:43:34Z</dcterms:created>
  <dc:creator>nccworker</dc:creator>
  <dc:description/>
  <dc:language>en-US</dc:language>
  <cp:lastModifiedBy>Andaleeb</cp:lastModifiedBy>
  <dcterms:modified xsi:type="dcterms:W3CDTF">2004-08-11T17:11:00Z</dcterms:modified>
  <cp:revision>8</cp:revision>
  <dc:subject/>
  <dc:title>Windows Direct</dc:title>
</cp:coreProperties>
</file>