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A1F-CC38-4BFD-A4CF-372032FD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B66-34FB-4564-9F62-42ED2F60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16A-F626-47DD-9736-132DC693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25A-2756-4C66-B52D-C38F0807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5DE-139A-4EFD-A002-7CFCFE5E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345-108D-4209-8497-25A836F4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76C-00BA-4A41-9C8E-271F2701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D19-9737-4A4A-A01D-976B2A48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644-DE77-42D6-858B-5CBB7F5A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45E-AB84-4233-9F3A-94866642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162-81C5-4E2D-A971-5D6A113F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EE2-5EFA-46EE-9FFF-1B13AAB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35720" y="4797360"/>
            <a:ext cx="1197000" cy="129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3E98-7087-404B-AF04-5B9C76ECA40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27280" y="979560"/>
            <a:ext cx="762912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ثانوية الكند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2592360" cy="2046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58080" y="532116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Arial"/>
                <a:cs typeface="Arial"/>
              </a:rPr>
              <a:t>الطريق الرئيسي جانب فندق الشل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Arial"/>
                <a:cs typeface="Arial"/>
              </a:rPr>
              <a:t>تأسست في </a:t>
            </a:r>
            <a:r>
              <a:rPr b="0" lang="ar-AE" sz="1800" spc="-1" strike="noStrike">
                <a:solidFill>
                  <a:srgbClr val="000000"/>
                </a:solidFill>
                <a:latin typeface="Arial"/>
                <a:ea typeface="Arial"/>
              </a:rPr>
              <a:t>19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حول ثانوية الكند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لا تزال المدرسة في هذا الموقع منذ عام </a:t>
            </a: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19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نقدم العديد من التسهي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استخدام أحدث التقن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ملعب للتنس وصالة لياقة بدنية مجهزة بأحدث الوس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تعليم المبادئ الأساسية لاستخدام الح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656320" y="3137040"/>
            <a:ext cx="1795320" cy="1801800"/>
            <a:chOff x="5656320" y="3137040"/>
            <a:chExt cx="1795320" cy="18018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656320" y="3137040"/>
              <a:ext cx="179532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5656320" y="3137040"/>
              <a:ext cx="1795320" cy="18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812000" y="60930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سود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أهداف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769320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زويد الطلاب بأعلى مستويات الثقا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وفير بيئة تعليم عالية المستو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شجيع الطلاب لتطوير مهاراتهم لتساعدهم في مجالات عمل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نتائج الامتح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جهاز التدريس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لاحظات ها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بما أن مدرستنا صغيرة،  يمكننا الإبقاء على عدد قليل من الطلاب ضمن كل صف وبالتالي الاهتمام بكل طالب على ح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نقوم برحلات شهرية إلى أحد المعالم الأث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نستخدم أحدث الأساليب التقن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عرض الشرائ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سؤال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إجا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37:04Z</dcterms:created>
  <dc:creator>Roger</dc:creator>
  <dc:description/>
  <dc:language>en-US</dc:language>
  <cp:lastModifiedBy>16:47</cp:lastModifiedBy>
  <dcterms:modified xsi:type="dcterms:W3CDTF">2005-01-27T11:43:08Z</dcterms:modified>
  <cp:revision>3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