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38D0-EFD0-4597-A256-8DF4EC4F0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9DF6-54E9-409C-B10A-9225D59B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B753-36A4-40E8-AC97-49F963B12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1FE0-923B-4F1B-ACB6-7F9E85BBB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E88A-2F70-4380-93D3-35828E530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0A99-0DEF-43C2-B392-87B2873A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FF6E-E0B1-43A3-B0AB-F4FDD714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CD9D-9921-408B-8389-54CF16FB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3456-A6F1-471F-B16B-10F0BF11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3D9A-5878-4C52-879A-506DD0B1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5378-7040-43D6-9A36-50E09FC1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7F2C-0D18-4529-B74F-C09DAAF7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52A9-14EC-4C30-ABF1-C206D9FA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F4D9-D88D-42A8-9EF5-F4049ED8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05B1-0391-4D73-A83D-7F7989A9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2BD5-F3B9-485B-BE61-A37AE149A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F71B-B075-47F3-88E9-9FB9FBE3E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1330-466B-4711-B8FC-A5F3582E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0237-A04D-4230-AF70-167F0096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F819-E291-437B-BCED-38E1BAFC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D03D-8EDA-4B95-B196-0A647BC1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9DFE-569D-425D-921C-33DA3152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1024-CA27-4D51-AFD7-C28576BD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808F-DAFC-4357-82B8-AEC7C562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C645-971C-47B4-BD9B-BBBEB7D1D5C4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129B-1F89-47E9-AE95-7FB96A2A3EAF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5400" spc="-1" strike="noStrike">
                <a:solidFill>
                  <a:srgbClr val="ffcc66"/>
                </a:solidFill>
                <a:latin typeface="Arial"/>
              </a:rPr>
              <a:t>تويوتا </a:t>
            </a:r>
            <a:r>
              <a:rPr b="1" lang="ar-AE" sz="5400" spc="-1" strike="noStrike">
                <a:solidFill>
                  <a:srgbClr val="ffcc66"/>
                </a:solidFill>
                <a:latin typeface="Arial"/>
              </a:rPr>
              <a:t>1200</a:t>
            </a:r>
            <a:r>
              <a:rPr b="1" lang="ar-AE" sz="5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cc66"/>
                </a:solidFill>
                <a:latin typeface="Arial"/>
              </a:rPr>
              <a:t>GT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ffffff"/>
                </a:solidFill>
                <a:latin typeface="Times New Roman"/>
              </a:rPr>
              <a:t>السيارة النموذجي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715000" y="5450040"/>
            <a:ext cx="243828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ffcc66"/>
                </a:solidFill>
                <a:latin typeface="Arial"/>
              </a:rPr>
              <a:t>التصميم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ffffff"/>
                </a:solidFill>
                <a:latin typeface="Times New Roman"/>
              </a:rPr>
              <a:t>الهيكل الخارجي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ar-AE" sz="3200" spc="-1" strike="noStrike">
                <a:solidFill>
                  <a:srgbClr val="ffffff"/>
                </a:solidFill>
                <a:latin typeface="Times New Roman"/>
              </a:rPr>
              <a:t> يمتاز بالانسيابية والتصميم           الجيد ولها أربعة مصابيح أمامية تعمل                    بتقنية الليزر وتتوفر بعدة ألوان وعدة أحجام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ffffff"/>
                </a:solidFill>
                <a:latin typeface="Times New Roman"/>
              </a:rPr>
              <a:t>الهيكل الداخلي مريح وفاخر ويمكن للزبون أن يختار المواصفات المناسبة لاحتياجاته من ناحية لون المقاعد والمادة المستخدمة لصناعتها سواء كانت من الجلد الطبيعي أو من القماش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08:57:17Z</dcterms:created>
  <dc:creator>12:54</dc:creator>
  <dc:description/>
  <dc:language>en-US</dc:language>
  <cp:lastModifiedBy>MohdA</cp:lastModifiedBy>
  <dcterms:modified xsi:type="dcterms:W3CDTF">2004-08-05T10:23:12Z</dcterms:modified>
  <cp:revision>8</cp:revision>
  <dc:subject/>
  <dc:title>TFE 1200</dc:title>
</cp:coreProperties>
</file>