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LASER.WAV" ContentType="audio/x-wav"/>
  <Override PartName="/ppt/media/image4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DA2-B4B2-4D18-A6F4-11EFFEA1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234-8ED3-444C-B857-C69021C6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559-14A9-4132-80D7-C8AC56F9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1080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224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3936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1080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8224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CA6-31DD-45B6-B483-66B8780D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D35B-701E-457C-ADA4-377B15F9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089A-7484-44DC-A386-AF5A569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F401-2293-4524-B738-6B7CF964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FEF0-5809-4075-AB0E-A9A8EB8B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5CA8-7AB0-4CF4-B749-8795827D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68440" y="320400"/>
            <a:ext cx="108820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75ED-56A8-4C13-87DB-1C4224EE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6BEB-8AD6-42A3-93C7-CD1C7EB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4BB-10EB-4141-8B3A-935735E3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B575-6B9F-4472-9187-42C3FF7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338D-AA17-43CD-BC6D-E57FDB96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A42B-FBA9-40BF-9401-7BDB8C0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FE56-3D52-4A01-BFFE-D24E599B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080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224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936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1080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38224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A060-720B-401A-AFFD-CC5370E1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EB5-49AE-4847-959D-0502D626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F31-78C7-4BA3-B5DE-8697CD0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A8E-6B9B-438D-82C8-3DB80950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8440" y="320400"/>
            <a:ext cx="108820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743-6685-42A7-80C9-0F41D6B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762-21ED-4C29-931B-07802556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36B-7FFA-40BC-BE6C-EFE4E19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90D-7260-45B6-B4D9-B7AAFC2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56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1" marL="1039680" indent="-399960">
              <a:spcBef>
                <a:spcPts val="1125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2" marL="1600200" indent="-320760">
              <a:spcBef>
                <a:spcPts val="1125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3" marL="2239920" indent="-318960">
              <a:spcBef>
                <a:spcPts val="1125"/>
              </a:spcBef>
              <a:buClr>
                <a:srgbClr val="ffcc00"/>
              </a:buClr>
              <a:buFont typeface="Tahom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4" marL="2879640" indent="-318960">
              <a:spcBef>
                <a:spcPts val="1125"/>
              </a:spcBef>
              <a:buClr>
                <a:srgbClr val="ffcc00"/>
              </a:buClr>
              <a:buFont typeface="Tahom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Tahom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Tahom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4800" y="8721360"/>
            <a:ext cx="266688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21360"/>
            <a:ext cx="405432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23360" y="8721360"/>
            <a:ext cx="266688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ar-SA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C110EF0-0548-4993-976C-F2D72BF56B44}" type="slidenum">
              <a:rPr b="0" lang="ar-SA" sz="20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279440" y="1839960"/>
            <a:ext cx="1152216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440" y="960120"/>
            <a:ext cx="1081080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56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995400" y="8721720"/>
            <a:ext cx="2703600" cy="719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410000" y="8721720"/>
            <a:ext cx="3981600" cy="719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9245160" y="8721720"/>
            <a:ext cx="2560680" cy="719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ar-SA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805F8A6-7866-48AD-9622-33E7691943D2}" type="slidenum">
              <a:rPr b="0" lang="ar-SA" sz="20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79440" y="2560680"/>
            <a:ext cx="11522160" cy="53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  <a:p>
            <a:pPr lvl="1" marL="639720" indent="0" algn="ctr">
              <a:spcBef>
                <a:spcPts val="9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lvl="2" marL="1279440" algn="ctr">
              <a:spcBef>
                <a:spcPts val="85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920960" algn="ctr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560680" algn="ctr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560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560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440" y="960120"/>
            <a:ext cx="1081080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b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ea typeface="Arial"/>
              </a:rPr>
              <a:t> مفكرة مدير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79080" y="5973480"/>
            <a:ext cx="10882440" cy="194796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4500" spc="-1" strike="noStrike">
                <a:solidFill>
                  <a:srgbClr val="ff6600"/>
                </a:solidFill>
                <a:latin typeface="Arial Black"/>
                <a:cs typeface="Arial"/>
              </a:rPr>
              <a:t>أجندة الأسبوع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4500" spc="-1" strike="noStrike">
                <a:solidFill>
                  <a:srgbClr val="ff6600"/>
                </a:solidFill>
                <a:latin typeface="Arial Black"/>
                <a:cs typeface="Arial"/>
              </a:rPr>
              <a:t>الدكتور عبد الله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28800" y="3432240"/>
            <a:ext cx="177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سبت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73440"/>
            <a:ext cx="125935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عاشرة صباحاً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رة ميدانية لأقسام الشركة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48240"/>
            <a:ext cx="12522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رة إلى المعرض الدولي للحاسب الآلي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قام في القاعة الرئيسية في مدينة المعارض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ea typeface="Arial"/>
              </a:rPr>
              <a:t> يوم الأحد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84600"/>
            <a:ext cx="128016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واحدة و النصف بعد الظهر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داء عمل مع إدارة شركة التقنية الرقمية لبحث التعاون بين الشركتي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08600"/>
            <a:ext cx="12377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ليم جوائز رمزية للفائزين بيوم الإنتاج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الد و ياس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66720"/>
            <a:ext cx="10882440" cy="12794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اثنين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12760" y="2560680"/>
            <a:ext cx="12376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ثامنة و النص صباحاً: اجتماع بالموظفين الجدد الذين تم تعينهم في الشركة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720960"/>
            <a:ext cx="128016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يظهر في الأسفل أسماء الموظفين و القسم الذي ينتمي إليه كل منهم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ثلاثاء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9720" y="2639880"/>
            <a:ext cx="564840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الساعة العاشرة و النصف صباحاً: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اجتماع مع مندوبي المبيعات: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أحمد، رائد و زيد.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الموضوع بحث نسبة ارتفاع المبيعات و خاصة في الأشهر الماضية.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688080" y="2855880"/>
          <a:ext cx="5614920" cy="58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8080" y="2855880"/>
                    <a:ext cx="5614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أربعاء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9720" y="2639880"/>
            <a:ext cx="564840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88000"/>
          </a:bodyPr>
          <a:p>
            <a:pPr marL="421920" indent="0" algn="r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لساعة الثانية و النصف ظهراً: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21920" indent="0" algn="r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جتماع مع المدير المالي و مدير و أعضاء فريق  الحسابات و المشتريات لمراجعة حسابات السنة الماضية و وضع ميزانية العام المقبل بشكلي مناسب للدراسات و التوقعات الملائمة لسياسة الشركة</a:t>
            </a:r>
            <a:r>
              <a:rPr b="0" lang="ar-AE" sz="39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264440" y="3002040"/>
          <a:ext cx="44989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4440" y="3002040"/>
                    <a:ext cx="44989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خميس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773440"/>
            <a:ext cx="128016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حادية عشر و النصف صباحاً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تماع مع قسم البرمجة للتعرف على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ث بر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 الشركة التي تم إطلاقها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376960"/>
            <a:ext cx="12695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ستماع للمحاضرة التي سيلقيها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ندس علي من قسم البرمجة حوول وضع البرامج في الشرك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49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جمعة</a:t>
            </a:r>
            <a:endParaRPr b="0" lang="en-US" sz="49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52600"/>
            <a:ext cx="128016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ء يوم الإجازة مع العائل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من برنامج ترفيهي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760" y="7302600"/>
            <a:ext cx="1914480" cy="15732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00600"/>
            <a:ext cx="128016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يتضمن من نزهة في المنتزه المركزي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إضافة إلى زيارة الأقارب في المسا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مجلس الإدارة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88440" y="3431160"/>
            <a:ext cx="8580600" cy="2203560"/>
            <a:chOff x="2188440" y="3431160"/>
            <a:chExt cx="8580600" cy="2203560"/>
          </a:xfrm>
        </p:grpSpPr>
        <p:cxnSp>
          <p:nvCxnSpPr>
            <p:cNvPr id="135" name="_s28707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7833240" y="3068280"/>
              <a:ext cx="230040" cy="2932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8706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6365160" y="4532400"/>
              <a:ext cx="2300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8705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4897080" y="3064320"/>
              <a:ext cx="230040" cy="2941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8701"/>
            <p:cNvSpPr/>
            <p:nvPr/>
          </p:nvSpPr>
          <p:spPr>
            <a:xfrm>
              <a:off x="5256360" y="3431160"/>
              <a:ext cx="2447640" cy="988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د. عبد الل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28702"/>
            <p:cNvSpPr/>
            <p:nvPr/>
          </p:nvSpPr>
          <p:spPr>
            <a:xfrm>
              <a:off x="2188440" y="4649760"/>
              <a:ext cx="2707200" cy="9849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جمال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28703"/>
            <p:cNvSpPr/>
            <p:nvPr/>
          </p:nvSpPr>
          <p:spPr>
            <a:xfrm>
              <a:off x="5125320" y="4649760"/>
              <a:ext cx="2707200" cy="9849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عبد الرحمن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28704"/>
            <p:cNvSpPr/>
            <p:nvPr/>
          </p:nvSpPr>
          <p:spPr>
            <a:xfrm>
              <a:off x="8061840" y="4649760"/>
              <a:ext cx="2707200" cy="9849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موسى</a:t>
              </a: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13:47:51Z</dcterms:created>
  <dc:creator>swdev</dc:creator>
  <dc:description/>
  <dc:language>en-US</dc:language>
  <cp:lastModifiedBy>Andaleeb</cp:lastModifiedBy>
  <dcterms:modified xsi:type="dcterms:W3CDTF">2004-08-11T17:48:35Z</dcterms:modified>
  <cp:revision>48</cp:revision>
  <dc:subject/>
  <dc:title>Title goes here</dc:title>
</cp:coreProperties>
</file>