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18D-CC57-432B-9553-CE14C492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457-DDE1-40A0-A46E-361F153F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C29-C80E-4DC7-86DD-0C9348A5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075-68A0-453D-9114-343619DC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AE5-63B9-43FD-B84A-B10B7559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E49-B45E-452E-BABA-B07B84CD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5E7-DEC2-4736-817E-5F86014B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6F4-A289-4FAF-A9B5-6F4504FD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AB9-FDB2-4D13-B43F-ED6E8031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4DC-2C86-4C00-908B-22EFCAE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999-DA00-452A-8A77-12C8AF9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DC9-20EE-428C-BC50-8A78ADE4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8C0-A7EB-4596-A7F3-AB59FE367B6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14080" y="2641680"/>
            <a:ext cx="285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شركة إخو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عاملة من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ي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عو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2192400" cy="403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1000" y="2363760"/>
            <a:ext cx="685800" cy="1219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295280"/>
            <a:ext cx="431640" cy="72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فريق الرئيس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rial"/>
              </a:rPr>
              <a:t>ملخص الأرب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38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80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86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.4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.1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346560" y="2940120"/>
          <a:ext cx="3587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940120"/>
                    <a:ext cx="3587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rial"/>
              </a:rPr>
              <a:t>تطوير المنت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548480"/>
            <a:ext cx="6858000" cy="1247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505320" y="2666880"/>
          <a:ext cx="301932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301932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38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نتجات الجديدة هذا الشهر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وع أقواس مربع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سول مضاد للدمو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37680" y="4087080"/>
            <a:ext cx="4371120" cy="2115360"/>
            <a:chOff x="1237680" y="4087080"/>
            <a:chExt cx="4371120" cy="2115360"/>
          </a:xfrm>
        </p:grpSpPr>
        <p:cxnSp>
          <p:nvCxnSpPr>
            <p:cNvPr id="57" name="_s13326"/>
            <p:cNvCxnSpPr>
              <a:stCxn id="58" idx="0"/>
              <a:endCxn id="59" idx="2"/>
            </p:cNvCxnSpPr>
            <p:nvPr/>
          </p:nvCxnSpPr>
          <p:spPr>
            <a:xfrm flipV="1" rot="16200000">
              <a:off x="3993120" y="4379400"/>
              <a:ext cx="389160" cy="153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25"/>
            <p:cNvCxnSpPr>
              <a:stCxn id="61" idx="0"/>
              <a:endCxn id="59" idx="2"/>
            </p:cNvCxnSpPr>
            <p:nvPr/>
          </p:nvCxnSpPr>
          <p:spPr>
            <a:xfrm flipV="1">
              <a:off x="3422880" y="4950000"/>
              <a:ext cx="1800" cy="3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24"/>
            <p:cNvCxnSpPr>
              <a:stCxn id="63" idx="0"/>
              <a:endCxn id="59" idx="2"/>
            </p:cNvCxnSpPr>
            <p:nvPr/>
          </p:nvCxnSpPr>
          <p:spPr>
            <a:xfrm flipH="1" flipV="1" rot="5400000">
              <a:off x="2463480" y="4379400"/>
              <a:ext cx="389160" cy="153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13320"/>
            <p:cNvSpPr/>
            <p:nvPr/>
          </p:nvSpPr>
          <p:spPr>
            <a:xfrm>
              <a:off x="2767680" y="4087080"/>
              <a:ext cx="1311120" cy="863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الأشياء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13321"/>
            <p:cNvSpPr/>
            <p:nvPr/>
          </p:nvSpPr>
          <p:spPr>
            <a:xfrm>
              <a:off x="1237680" y="5339160"/>
              <a:ext cx="1311120" cy="863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نتج</a:t>
              </a:r>
              <a:r>
                <a:rPr b="0" lang="ar-AE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13322"/>
            <p:cNvSpPr/>
            <p:nvPr/>
          </p:nvSpPr>
          <p:spPr>
            <a:xfrm>
              <a:off x="2767680" y="5339160"/>
              <a:ext cx="1311120" cy="863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المنتج</a:t>
              </a:r>
              <a:r>
                <a:rPr b="0" lang="ar-AE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13323"/>
            <p:cNvSpPr/>
            <p:nvPr/>
          </p:nvSpPr>
          <p:spPr>
            <a:xfrm>
              <a:off x="4297680" y="5339160"/>
              <a:ext cx="1311120" cy="863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المنتج</a:t>
              </a:r>
              <a:r>
                <a:rPr b="0" lang="ar-AE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AE" sz="13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rial"/>
              </a:rPr>
              <a:t>كلمة أخي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38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توقع الأرباح لوضع الميزانية في أبر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دفع مكافئات في حال نجحت الميز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خمسة موظفين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جدد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في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ي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مواقف سيارات جدي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505320" y="2641680"/>
          <a:ext cx="28382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41680"/>
                    <a:ext cx="28382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rial"/>
              </a:rPr>
              <a:t>ملخص الربع السنوي لدورة رأس الم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14400" y="2743200"/>
          <a:ext cx="492768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743200"/>
                    <a:ext cx="492768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لحق أ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4440" y="2641680"/>
            <a:ext cx="5829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37:04Z</dcterms:created>
  <dc:creator>Roger</dc:creator>
  <dc:description/>
  <dc:language>en-US</dc:language>
  <cp:lastModifiedBy>NCC ATS </cp:lastModifiedBy>
  <dcterms:modified xsi:type="dcterms:W3CDTF">2004-08-26T15:01:40Z</dcterms:modified>
  <cp:revision>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