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DF6-D3DC-4859-B56B-DE0D7DC0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E1FB-BF57-42E7-81E5-AAD690C7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793-C3BA-4C40-9945-8EB1C909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DC5A-BAD3-4DFA-9CBE-3EA83FED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766-B644-420E-A1AA-28914D2A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89BF-FCA6-45A9-81FF-8908D4B9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5E4-6D7C-4D68-8618-97EAD6EA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30E-92B4-4CC9-8BA5-99820B6F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AA3-23A1-49C5-8272-40D05CB5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A08-BEEF-4CDE-B8E0-FA060D93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B612-FCFB-4528-A619-7906F0F7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0B8-9388-42AE-9B8A-FE73BCB9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2448-E130-4CCF-BC20-64541D2DF16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المركز الوطني للحياة البحر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00600" y="327636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36576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أهداف المرك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99"/>
                </a:solidFill>
                <a:latin typeface="Arial"/>
                <a:cs typeface="Arial"/>
              </a:rPr>
              <a:t>إعطاء الزوار تصوراً كاملاً عن الحياة البحر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99"/>
                </a:solidFill>
                <a:latin typeface="Arial"/>
                <a:cs typeface="Arial"/>
              </a:rPr>
              <a:t>تعريف الزوار على البحر و الكائنات التي            تعيش في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99"/>
                </a:solidFill>
                <a:latin typeface="Arial"/>
                <a:cs typeface="Arial"/>
              </a:rPr>
              <a:t>عقد مداولات للتحدث عن البيئات تحت الماء، المحلية منها و العالم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99"/>
                </a:solidFill>
                <a:latin typeface="Arial"/>
                <a:cs typeface="Arial"/>
              </a:rPr>
              <a:t>منح بيئة آمنة و واقعية للحيوانات و الأسماك و النباتات داخل المرك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بنية المرك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الزوار المتوقعو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193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التسهيل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ممرات للمشي تحت الماء خلال مياه البحار الاستوائية و البار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مميزات أسماك القرش و الدولف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أماكن لسباحة و إيواء السلاح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توفير مأوى آمن للفق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أماكن للتعلي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مقه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محال للتسو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904080" y="4495680"/>
            <a:ext cx="122220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الشريحة الرئيس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3T11:15:40Z</dcterms:created>
  <dc:creator>HEATHER</dc:creator>
  <dc:description/>
  <dc:language>en-US</dc:language>
  <cp:lastModifiedBy>16:47</cp:lastModifiedBy>
  <dcterms:modified xsi:type="dcterms:W3CDTF">2005-01-10T12:41:42Z</dcterms:modified>
  <cp:revision>9</cp:revision>
  <dc:subject/>
  <dc:title>National Sealife Centre</dc:title>
</cp:coreProperties>
</file>