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F85-1F20-40FE-AD44-316712B5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B7E-533E-405D-955C-0F16DB36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498-C75C-419F-A733-648ECD64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64A-E806-4B95-B736-18F392AB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2CA-372E-4580-BA27-FFA7E7DB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CD6A-89BA-41BE-95D9-B298381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6326-5761-4B4F-A80B-334E594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1D4-4CFC-4FBB-A85E-5A5E684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00B0-4B49-4A7C-A041-10A729AD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617-5583-4E69-A977-21129FE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766-987D-4E31-B099-38FB219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954-B8ED-418C-A6DC-A31E837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566-65B5-4D51-9A08-B9439C4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8070-70D5-4814-99A1-C090835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067C-FF7D-4FF2-A19E-7374DEF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31BB-30CA-49B6-89A8-758CF2A5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671-1C58-43DA-9F32-A809684C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C60-330C-49F1-BAEB-B60C5F1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D0C-6330-4A11-911A-9CE00B8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91D-75BC-43B3-89B3-C8E484E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5DD-37FE-48AA-9D86-F9CE38B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364-3B61-4855-9071-C703DDA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554-FD1D-483E-8291-4167246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365-84FB-44B4-B671-AA8D156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E22-DD30-4691-8528-C03EE20394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603-E381-41CF-8455-7E3E1FF1E647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مكتبة المتنب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381024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إتحا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ي السل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3280" y="3573000"/>
            <a:ext cx="38102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46483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رابطة الكتا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000" spc="-1" strike="noStrike">
                <a:solidFill>
                  <a:srgbClr val="000000"/>
                </a:solidFill>
                <a:latin typeface="Tahoma"/>
                <a:cs typeface="Tahoma"/>
              </a:rPr>
              <a:t>تسمح هذه الرابطة للزبائن بالانضمام إلى ناديها الخاص الذي يمنح ال</a:t>
            </a:r>
            <a:r>
              <a:rPr b="0" lang="ar-SA" sz="3000" spc="-1" strike="noStrike">
                <a:solidFill>
                  <a:srgbClr val="000000"/>
                </a:solidFill>
                <a:latin typeface="Tahoma"/>
                <a:cs typeface="Tahoma"/>
              </a:rPr>
              <a:t>أ</a:t>
            </a:r>
            <a:r>
              <a:rPr b="0" lang="ar-AE" sz="3000" spc="-1" strike="noStrike">
                <a:solidFill>
                  <a:srgbClr val="000000"/>
                </a:solidFill>
                <a:latin typeface="Tahoma"/>
                <a:cs typeface="Tahoma"/>
              </a:rPr>
              <a:t>عضاء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مجلة شه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أمسيات شع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عروض خاص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لقاءات مع الأدبا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ماذا يتضمن العر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مجموعة ضخمة من السير الذات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جميع أنواع الكتب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العديد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من كتب ا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كتب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عليم الطبخ الغربي و الشرقي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ولدين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دائماً المز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العروض الخاصة بالافتتا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عند الافتت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جميع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مشتري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خلال الأسبوع الأو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كتب تعليم الر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كتب ا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15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جميع الكت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خلال الشهر الأو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 % على كتب التاري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أوقات العم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12:47Z</dcterms:created>
  <dc:creator>nccworker</dc:creator>
  <dc:description/>
  <dc:language>en-US</dc:language>
  <cp:lastModifiedBy>MohdA</cp:lastModifiedBy>
  <dcterms:modified xsi:type="dcterms:W3CDTF">2004-08-10T05:07:08Z</dcterms:modified>
  <cp:revision>19</cp:revision>
  <dc:subject/>
  <dc:title>Elliotts Bookshop</dc:title>
</cp:coreProperties>
</file>