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4E49-6AA4-4E45-9482-7E9ACE9F9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1157-D400-41A6-8EDF-8EC43434A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8E8E-400B-47D4-B41F-247D9365D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EC78-3829-4962-819D-5C4ACE899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4B89-1A2B-4B23-8FCF-FF2B56FCD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9489-0751-4ED2-A3D6-59FB5DD16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E104-0FFF-4874-BA24-EFADDD200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907D-872A-418E-858D-01FB5836F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7ACB-0681-4B4E-B962-AC10AF40B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869A-9E99-4E0B-BE2C-AF0CF0EB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D674-CBDB-4EF1-8916-2010C5EE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1303-3CAA-4FEB-B60D-F00434355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AE0F5-5D7F-4233-B94B-B252B77F75FA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رض التقديمي على الحاس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90476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666880" y="3429000"/>
            <a:ext cx="3810240" cy="2717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6477120"/>
            <a:ext cx="9144000" cy="75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رض التقديمي على اللوحة</a:t>
            </a:r>
            <a:br>
              <a:rPr sz="1800"/>
            </a:br>
            <a:r>
              <a:rPr b="0" lang="ar-AE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دول الأعما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ar-A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جزء الأو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4796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فق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اعتذا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ربع الأو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ربع الثان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ربع الثال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ربع الأخي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عداد التقرير النهائ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477120"/>
            <a:ext cx="9144000" cy="75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242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رض التقديمي على اللوحة سيبدأ في الساعة </a:t>
            </a:r>
            <a:r>
              <a:rPr b="0" lang="ar-A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:00</a:t>
            </a:r>
            <a:r>
              <a:rPr b="0" lang="ar-A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وسيتم التصريح بالمكسب / الخسارة بعد ذل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يتم تقديم المرطبات ابتداءً من الساعة </a:t>
            </a:r>
            <a:r>
              <a:rPr b="0" lang="ar-A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:00</a:t>
            </a:r>
            <a:r>
              <a:rPr b="0" lang="ar-A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سيشمل ذلك المشروبات الساخنة و الباردة و البوفيه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4041720" cy="50072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طبا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رض التقديمي على الفيديو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90360" y="1981080"/>
            <a:ext cx="7467480" cy="41148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6477120"/>
            <a:ext cx="9144000" cy="75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بيعات </a:t>
            </a:r>
            <a:r>
              <a:rPr b="0" lang="ar-AE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5800" y="1981080"/>
          <a:ext cx="7770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0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0" y="6477120"/>
            <a:ext cx="9144000" cy="75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كراً على الانتبا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6477120"/>
            <a:ext cx="9144000" cy="75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تبه للمدرس بينما يشرح العرض التقديمي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2T15:22:58Z</dcterms:created>
  <dc:creator>Roger</dc:creator>
  <dc:description/>
  <dc:language>en-US</dc:language>
  <cp:lastModifiedBy>12:20</cp:lastModifiedBy>
  <dcterms:modified xsi:type="dcterms:W3CDTF">2004-09-10T08:38:59Z</dcterms:modified>
  <cp:revision>39</cp:revision>
  <dc:subject/>
  <dc:title>Computer Present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NCCWork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