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038-EE1E-45CF-8105-3C048B25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C2FD-C28F-4C9E-8080-44B469A5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A070-8BC4-4E93-82F6-32547784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BA8-8BFA-42EB-B9BC-5E247002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EF12-BA08-4CDD-906C-2F8BD365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1213-9B2A-4711-854D-6F61432D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0CF5-6C50-403C-9774-6DBD4ADC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55F6-4C17-492E-935B-B6397A5E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BC26-B40C-4495-9F18-C73D01A3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7699-6A5A-4842-AF13-A867280D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3AD1-2DEC-429F-873B-56F74F38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5E34-02E9-4608-8B03-4305932B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F95F-D97B-4313-B085-6BAA6075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7BF6-D416-4E5B-8778-DE1C58FC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D92E-637C-4B55-B0D9-E3DD4132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7900-1BAA-4AD8-AB86-F560251F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75D7-9C36-49CA-AB93-901D1470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1C2-4F3F-4D6F-9305-C428298C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C7C7-5914-4D46-8A2E-679967F4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299-581A-41BD-9B94-85146D81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EAB-5926-42B2-BB2E-E4E8515D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C39-66D2-4B47-8E0B-A02AFB9B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F14-3212-460F-A199-C530736B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797-BF15-4AF9-A1F0-982F193C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5840" y="0"/>
            <a:ext cx="1085760" cy="9142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4480" y="2336760"/>
            <a:ext cx="3543120" cy="2034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1680" y="1015920"/>
            <a:ext cx="6284880" cy="10159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14080" y="82292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343240" y="822924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915080" y="822924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5840" y="0"/>
            <a:ext cx="1085760" cy="9142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440" y="3251160"/>
            <a:ext cx="6342120" cy="10159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3047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14080" y="82292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2343240" y="822924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4915080" y="822924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673520"/>
            <a:ext cx="3543480" cy="2034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1000" y="3047760"/>
            <a:ext cx="64580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cbcbcb"/>
                </a:solidFill>
                <a:latin typeface="Times New Roman"/>
                <a:cs typeface="Times New Roman"/>
              </a:rPr>
              <a:t>جماعة الأرض الطيبة لحماية البيئ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895480" y="5029200"/>
            <a:ext cx="3772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8839080"/>
            <a:ext cx="1676520" cy="763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80773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ضو مساعدة البيئ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cbcbcb"/>
                </a:solidFill>
                <a:latin typeface="Times New Roman"/>
                <a:cs typeface="Times New Roman"/>
              </a:rPr>
              <a:t>تاريخنا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4440" y="2946240"/>
            <a:ext cx="6172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5840" y="2844720"/>
            <a:ext cx="64580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ccff"/>
                </a:solidFill>
                <a:latin typeface="Times New Roman"/>
                <a:cs typeface="Arabic Transparent"/>
              </a:rPr>
              <a:t>جماعة الأرض الطيبة لحماية البيئة هي أقدم جماعة مستقلة لحماية البيئة             في الوطن العربي. تشكلت جماعتنا منذ </a:t>
            </a:r>
            <a:r>
              <a:rPr b="0" lang="ar-AE" sz="1800" spc="-1" strike="noStrike">
                <a:solidFill>
                  <a:srgbClr val="00ccff"/>
                </a:solidFill>
                <a:latin typeface="Times New Roman"/>
                <a:ea typeface="Arabic Transparent"/>
              </a:rPr>
              <a:t>35</a:t>
            </a:r>
            <a:r>
              <a:rPr b="0" lang="ar-AE" sz="1800" spc="-1" strike="noStrike">
                <a:solidFill>
                  <a:srgbClr val="00ccff"/>
                </a:solidFill>
                <a:latin typeface="Times New Roman"/>
                <a:ea typeface="Arabic Transparent"/>
              </a:rPr>
              <a:t> سنة للاعتناء ببعض                القنوات في المنطقة. منذ ذلك الوقت وأعضاء الجماعة في نمو مستمر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ccff"/>
                </a:solidFill>
                <a:latin typeface="Times New Roman"/>
                <a:cs typeface="Arabic Transparent"/>
              </a:rPr>
              <a:t>نحن نعمل بنشاط في منطقة شمال أفريقيا وما حولها </a:t>
            </a:r>
            <a:r>
              <a:rPr b="0" lang="ar-AE" sz="1800" spc="-1" strike="noStrike">
                <a:solidFill>
                  <a:srgbClr val="00ccff"/>
                </a:solidFill>
                <a:latin typeface="Times New Roman"/>
                <a:cs typeface="Times New Roman"/>
              </a:rPr>
              <a:t>مع ما يزيد عن </a:t>
            </a:r>
            <a:r>
              <a:rPr b="0" lang="ar-AE" sz="1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500</a:t>
            </a:r>
            <a:r>
              <a:rPr b="0" lang="ar-AE" sz="1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عضو</a:t>
            </a:r>
            <a:r>
              <a:rPr b="1" lang="ar-AE" sz="1800" spc="-1" strike="noStrike">
                <a:solidFill>
                  <a:srgbClr val="00ccff"/>
                </a:solidFill>
                <a:latin typeface="Times New Roman"/>
                <a:ea typeface="Arabic Transparen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343400" y="6553080"/>
            <a:ext cx="2209680" cy="2021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8600" y="8839080"/>
            <a:ext cx="1676520" cy="763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472428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ccff"/>
                </a:solidFill>
                <a:latin typeface="Times New Roman"/>
                <a:cs typeface="Arabic Transparent"/>
              </a:rPr>
              <a:t>نرحب دائماً بالمتطوعين الجدد الراغبين بالانضمام إلينا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cbcbcb"/>
                </a:solidFill>
                <a:latin typeface="Times New Roman"/>
                <a:cs typeface="Times New Roman"/>
              </a:rPr>
              <a:t>ما الذي نقوم به</a:t>
            </a:r>
            <a:r>
              <a:rPr b="0" lang="ar-SA" sz="4400" spc="-1" strike="noStrike">
                <a:solidFill>
                  <a:srgbClr val="cbcbcb"/>
                </a:solidFill>
                <a:latin typeface="Times New Roman"/>
                <a:cs typeface="Times New Roman"/>
              </a:rPr>
              <a:t>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2641320"/>
            <a:ext cx="58291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cs typeface="Arial"/>
              </a:rPr>
              <a:t>الاهتمام بالغابات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cs typeface="Arial"/>
              </a:rPr>
              <a:t>بناء وإحياء البرك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cs typeface="Arial"/>
              </a:rPr>
              <a:t>غرس الأشجار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cs typeface="Arial"/>
              </a:rPr>
              <a:t>بناء ممرات المشاة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cs typeface="Arial"/>
              </a:rPr>
              <a:t>تجفيف الأسوار الحجرية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cs typeface="Arial"/>
              </a:rPr>
              <a:t>زراعة السياج الشجرية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8839080"/>
            <a:ext cx="1676520" cy="763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8839080"/>
            <a:ext cx="1676520" cy="763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cbcbcb"/>
                </a:solidFill>
                <a:latin typeface="Times New Roman"/>
                <a:cs typeface="Times New Roman"/>
              </a:rPr>
              <a:t>مع من نعم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05320" y="2641680"/>
            <a:ext cx="28382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Arial"/>
              </a:rPr>
              <a:t>نعمل مع الأشخاص الموثو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Arial"/>
              </a:rPr>
              <a:t>بهم، والمنظمات الدولي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Arial"/>
              </a:rPr>
              <a:t>وبعض الجماعات الأخرى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Arial"/>
              </a:rPr>
              <a:t>ضمن منطقتنا. نرحب دائماً  بالتعاون مع المجموعات الأخرى في منطقتنا و في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Arial"/>
              </a:rPr>
              <a:t>ا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ل</a:t>
            </a: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Arial"/>
              </a:rPr>
              <a:t>خارج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120" y="812520"/>
            <a:ext cx="62290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cbcbcb"/>
                </a:solidFill>
                <a:latin typeface="Times New Roman"/>
                <a:cs typeface="Times New Roman"/>
              </a:rPr>
              <a:t>من يدفع لنا وما التكلفة التي نحتاجها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440" y="2641320"/>
            <a:ext cx="58291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2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900" spc="-1" strike="noStrike">
                <a:solidFill>
                  <a:srgbClr val="ffffff"/>
                </a:solidFill>
                <a:latin typeface="Arial"/>
                <a:cs typeface="Arial"/>
              </a:rPr>
              <a:t>نحن مؤسسة خيرية مسجلة و نعتمد على التبرعات.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" spc="-1" strike="noStrike">
                <a:solidFill>
                  <a:srgbClr val="ffffff"/>
                </a:solidFill>
                <a:latin typeface="Arial"/>
                <a:cs typeface="Arial"/>
              </a:rPr>
              <a:t>لا نتقاضى أجراً عن خدماتنا أبدًا</a:t>
            </a:r>
            <a:r>
              <a:rPr b="1" lang="ar-AE" sz="9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900" spc="-1" strike="noStrike">
                <a:solidFill>
                  <a:srgbClr val="ffffff"/>
                </a:solidFill>
                <a:latin typeface="Arial"/>
                <a:cs typeface="Arial"/>
              </a:rPr>
              <a:t>نحن نبحث عن رعاة/ متبرعين.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900" spc="-1" strike="noStrike">
                <a:solidFill>
                  <a:srgbClr val="ffffff"/>
                </a:solidFill>
                <a:latin typeface="Arial"/>
                <a:cs typeface="Arial"/>
              </a:rPr>
              <a:t>عدة شركات كبرى تزودنا بالموارد مجاناً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" spc="-1" strike="noStrike">
                <a:solidFill>
                  <a:srgbClr val="ffffff"/>
                </a:solidFill>
                <a:latin typeface="Arial"/>
                <a:cs typeface="Arial"/>
              </a:rPr>
              <a:t>لقد قدمنا طلباً للحصول على منحة لتجديد قناة ضخمة.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4440" y="762012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تصل بنا على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0161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222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557</a:t>
            </a:r>
            <a:r>
              <a:rPr b="1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112160"/>
            <a:ext cx="2400480" cy="4060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ffffff"/>
                </a:solidFill>
                <a:latin typeface="Arial"/>
                <a:cs typeface="Arial"/>
              </a:rPr>
              <a:t>لتقديم التبرعات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81080" y="3657600"/>
            <a:ext cx="1658880" cy="1517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" y="8839080"/>
            <a:ext cx="1676520" cy="763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cbcbcb"/>
                </a:solidFill>
                <a:latin typeface="Times New Roman"/>
                <a:cs typeface="Times New Roman"/>
              </a:rPr>
              <a:t>وضع التكنولوجيا في خدمتنا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440" y="2641320"/>
            <a:ext cx="5829120" cy="23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2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800" spc="-1" strike="noStrike">
                <a:solidFill>
                  <a:srgbClr val="ffffff"/>
                </a:solidFill>
                <a:latin typeface="Arial"/>
                <a:cs typeface="Arial"/>
              </a:rPr>
              <a:t>دائماً ما تستخدم جماعة الأرض الطيبة أحدث التكنولوجيا. لعرض تقديمي مثل هذا نستخدم باوربوينت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800" spc="-1" strike="noStrike">
                <a:solidFill>
                  <a:srgbClr val="ffffff"/>
                </a:solidFill>
                <a:latin typeface="Arial"/>
                <a:cs typeface="Arial"/>
              </a:rPr>
              <a:t>الشريحة التالية مقتبسة من تعليمات باوربوينت وتعرض كيفية إنشاء الشرائح وملاحظات المعلق.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800" spc="-1" strike="noStrike">
                <a:solidFill>
                  <a:srgbClr val="ffffff"/>
                </a:solidFill>
                <a:latin typeface="Arial"/>
                <a:cs typeface="Arial"/>
              </a:rPr>
              <a:t>للحصول على تعليمات أكثر، استخدم فهرس التعليمات. 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8839080"/>
            <a:ext cx="1676520" cy="763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43200" y="5029200"/>
            <a:ext cx="3960720" cy="3624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1360" y="3048120"/>
            <a:ext cx="6458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cbcbcb"/>
                </a:solidFill>
                <a:latin typeface="Times New Roman"/>
                <a:cs typeface="Times New Roman"/>
              </a:rPr>
              <a:t>جماعة الأرض الطيبة لحماية البيئ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-360" y="4876920"/>
            <a:ext cx="2343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ffffff"/>
                </a:solidFill>
                <a:latin typeface="Arial"/>
                <a:cs typeface="Arial"/>
              </a:rPr>
              <a:t>انضم إلينا وكن مختلفا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cbcbcb"/>
                </a:solidFill>
                <a:latin typeface="Times New Roman"/>
                <a:cs typeface="Times New Roman"/>
              </a:rPr>
              <a:t>بنية الفريق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2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000" spc="-1" strike="noStrike">
                <a:solidFill>
                  <a:srgbClr val="ffffff"/>
                </a:solidFill>
                <a:latin typeface="Arial"/>
                <a:cs typeface="Arial"/>
              </a:rPr>
              <a:t>مدير العمليات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000" spc="-1" strike="noStrike">
                <a:solidFill>
                  <a:srgbClr val="ffffff"/>
                </a:solidFill>
                <a:latin typeface="Arial"/>
                <a:cs typeface="Arial"/>
              </a:rPr>
              <a:t>الأعضاء والمشتركين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000" spc="-1" strike="noStrike">
                <a:solidFill>
                  <a:srgbClr val="ffffff"/>
                </a:solidFill>
                <a:latin typeface="Arial"/>
                <a:cs typeface="Arial"/>
              </a:rPr>
              <a:t>مدراء المشروع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000" spc="-1" strike="noStrike">
                <a:solidFill>
                  <a:srgbClr val="ffffff"/>
                </a:solidFill>
                <a:latin typeface="Arial"/>
                <a:cs typeface="Arial"/>
              </a:rPr>
              <a:t>الصحة والأمان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000" spc="-1" strike="noStrike">
                <a:solidFill>
                  <a:srgbClr val="ffffff"/>
                </a:solidFill>
                <a:latin typeface="Arial"/>
                <a:cs typeface="Arial"/>
              </a:rPr>
              <a:t>مسؤول الدعاية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8839080"/>
            <a:ext cx="1676520" cy="763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cbcbcb"/>
                </a:solidFill>
                <a:latin typeface="Times New Roman"/>
                <a:cs typeface="Times New Roman"/>
              </a:rPr>
              <a:t>كيف اشترك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cs typeface="Arial"/>
              </a:rPr>
              <a:t>احضر أي من اجتماعاتنا التي تعقد أيام الأربعاء والجمعة  والأحد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cs typeface="Arial"/>
              </a:rPr>
              <a:t>تتم اللقاءات في النادي الموجود في الشارع الرئيسي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440" y="7620120"/>
            <a:ext cx="5829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Arial"/>
              </a:rPr>
              <a:t>ملابس مريح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Arial"/>
              </a:rPr>
              <a:t>بعض وقت الفراغ والحماس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112160"/>
            <a:ext cx="2400480" cy="4060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ffffff"/>
                </a:solidFill>
                <a:latin typeface="Arial"/>
                <a:cs typeface="Arial"/>
              </a:rPr>
              <a:t>ماذا أحتاج ؟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8839080"/>
            <a:ext cx="1676520" cy="763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7T08:40:55Z</dcterms:created>
  <dc:creator>swdev</dc:creator>
  <dc:description/>
  <dc:language>en-US</dc:language>
  <cp:lastModifiedBy>NCC ATS </cp:lastModifiedBy>
  <dcterms:modified xsi:type="dcterms:W3CDTF">2004-08-24T11:11:08Z</dcterms:modified>
  <cp:revision>66</cp:revision>
  <dc:subject/>
  <dc:title>The Manchester Conservation Group</dc:title>
</cp:coreProperties>
</file>