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504-0CFA-4AA7-BE06-1DEF460D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371-BEC8-4BCA-988F-8AB8CBD7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988-C377-48E1-A725-6D46797D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D32-8332-4801-9708-29CE8113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C46-6DD5-4E29-A62B-15C76B9D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669-FB41-446E-B27A-82AA56C5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C28-7BC1-4B1C-A985-EF47471A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D88-4352-4131-B8DF-C49B6195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D6B-78F0-47D2-BD09-AFF0A37F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8DC-5815-425D-A53E-DD4E9CA0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A6C-7F7B-4315-A7DC-517BDC4B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DFC-56D7-4620-8ABA-CDD93BDC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C174-A5F5-4A63-A2E7-80AB031AA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مركز الوطني للحياة المائ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09720" y="3276360"/>
            <a:ext cx="3048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99"/>
                </a:solidFill>
                <a:latin typeface="Arial"/>
                <a:cs typeface="Arial"/>
              </a:rPr>
              <a:t>الخبرة الفريدة  في            الحياة المائ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36576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تسهيل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مرات للمشي تحت الماء خلال مياه البحار الاستوائية والبار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ميزات أسماك القرش والدولف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أماكن لسباحة وإيواء السلاح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توفير مأوى آمن للفق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أماكن للتعلي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قه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حال للتسو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04080" y="4495680"/>
            <a:ext cx="122220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1:39:42Z</dcterms:created>
  <dc:creator>HEATHER</dc:creator>
  <dc:description/>
  <dc:language>en-US</dc:language>
  <cp:lastModifiedBy>Andaleeb</cp:lastModifiedBy>
  <dcterms:modified xsi:type="dcterms:W3CDTF">2004-08-11T17:02:14Z</dcterms:modified>
  <cp:revision>4</cp:revision>
  <dc:subject/>
  <dc:title>National Sea-life Centre</dc:title>
</cp:coreProperties>
</file>