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083-23BE-4EFA-AC05-863DA726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1A-8211-4D1E-A482-57D72BA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3FC-A7F2-4C5F-ADB2-4811937E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01A-E576-4520-942A-BF04FC20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D9E9-D3BB-4137-9E73-DE458CB6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4184-F065-4ACD-88B4-50246ACB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683-CB25-4323-95FE-DC36526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4866-BFE9-46D7-A344-5EE3DCA4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D597-A68F-4BA5-91D0-88196946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882-2C46-406B-B25F-6530F1B3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1D0-AD59-4704-BAA4-E65C030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579-AAF1-4BF7-9229-23AC994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9D15-DA97-4C2F-8F70-A8C5F6C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B806-D251-4228-AC93-76D15A6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CDA9-A4F1-4189-8EB8-05817F2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7313-5C7F-479C-B75E-A91E4D6D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9A9D-9094-4476-8DEF-0239FA3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51F-CBDA-434F-9C6F-DB533D3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0A0-A72B-43CA-ABA4-18305AC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B00-3FC9-4A15-A929-BFC8ED7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350-39A7-4008-8A5F-0DBC22D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284-20F3-49DC-BC21-16CE6D4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E9A-7E2A-4571-B60C-3650E092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304-7186-4A91-9B30-F1F9B57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257-9207-4F92-BCE4-E3E26852FA2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DAC-DAC6-43B9-BA2B-06D1B2721D0E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3366"/>
                </a:solidFill>
                <a:latin typeface="Arial"/>
              </a:rPr>
              <a:t>توجه الأطر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6666"/>
                </a:solidFill>
                <a:latin typeface="Arial"/>
              </a:rPr>
              <a:t>تقرير المبيعات  السنوي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6666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محتويا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أين توقفنا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أين نحن الآن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المستقبل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تفاصيل المبيعات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التوقعات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مناقش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أين توقفن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منتج أساسي واح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طلاق منتج جديد واح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مداد جديد على الطري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حصة في السوق بنسبة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2362320"/>
          <a:ext cx="3770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362320"/>
                    <a:ext cx="3770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أين نحن الآ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89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منتجي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طلاق منتج جديد في أكتوبر الماضي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أسم في مجال التسوي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حصة من السوق تبلغ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نفيذ إطلاق ثلاث منتجات جديدة في الربع التالي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نمية قوة المبيعا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كتساب أفضل فريق مبيعات للسن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مستقب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مع المنتجات الجديدة والمبيعات الحالية، فإنه يتوقع للنمو بالارتفاع  تدريجياً بثبات لسنة قادم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توقعا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2361960"/>
            <a:ext cx="763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ناقش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Andaleeb</cp:lastModifiedBy>
  <dcterms:modified xsi:type="dcterms:W3CDTF">2004-08-11T17:08:51Z</dcterms:modified>
  <cp:revision>8</cp:revision>
  <dc:subject/>
  <dc:title>Windows Direct</dc:title>
</cp:coreProperties>
</file>