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C68-CB7E-496E-82B7-63A61981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85B-23FA-4792-A64E-EE75E8BD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C21-4538-4D9E-88D7-72849D57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0BE-560B-47BD-AF79-3D9E4741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828F-EF71-4120-88E9-E99ED2FB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9D9D-F406-46C2-B3D8-09279EFB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2F98-3E40-4AE8-AE67-C6F8B00F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49B3-293B-493C-9416-898B1D01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5ECF-2001-4FD2-BA6E-205C956B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2F9E-DCAF-4C5F-9AF0-D2B465E8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792E-14EE-4515-923B-471D4223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95E-1F5F-4C37-A445-1FF9F327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6004-C417-4B8E-9229-1D02CC13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692B-C7C1-4C65-BE11-2B34EB0E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71DE-D13C-487B-9EC7-27AB2A5C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872E-16D4-48F1-B540-9ADBAA12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7F5B-45CA-46AF-946A-F18E3514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241-72D0-41A5-AB92-008D9900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248-4FEB-4F96-A0F4-1077C937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13A-D8A1-4838-AEFD-40EAB9A1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EA5-7BCD-4C91-97C8-34AE6195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6D0-D5D1-4DBE-A141-63A81E84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1C2-38A7-4AD9-9337-6E57468E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B8C-9A1C-415F-8273-F2EA1A62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ED78-05C3-4BC2-AEDC-C4CE8410257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676520" cy="82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321D-4FFC-42FE-97E8-51CE1038E519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333399"/>
                </a:solidFill>
                <a:latin typeface="Tahoma"/>
              </a:rPr>
              <a:t>تويوتا </a:t>
            </a:r>
            <a:r>
              <a:rPr b="1" lang="ar-AE" sz="5400" spc="-1" strike="noStrike">
                <a:solidFill>
                  <a:srgbClr val="333399"/>
                </a:solidFill>
                <a:latin typeface="Tahoma"/>
              </a:rPr>
              <a:t>1200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450040"/>
            <a:ext cx="24382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تصمي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هيكل الخارج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يمتاز بالانسيابية والتصميم           الجيد ولها أربعة مصابيح أمامية تعمل                    بتقنية الليزر وتتوفر بعدة ألوان وعدة أحجا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هيكل الداخلي مريح وفاخر ويمكن للزبون أن يختار المواصفات المناسبة لاحتياجاته من ناحية لون المقاعد والمادة المستخدمة لصناعتها سواء كانت من الجلد الطبيعي أو من القماش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أد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حجم المحرك: يتراوح بين  إلى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2.2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حتى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3.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ليت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لسرعة القصوى: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27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ميل بالثان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لتسارع : تتسارع من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ميل بالساعة خلال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0.6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ثان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886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تكون صندوق الغيار الأوتوماتيكي من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سرع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تق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ضبط الحرارة الداخل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جهاز تحكم عن بع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مقاعد مزودة بجهاز تبري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نظام الملاحة الموجه بالأقمار الصناع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أضواء ليزر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ماسحات زجاج تعمل تلقائيا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أمن والأما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أنوا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2.0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 ( مصممة على هيكل يشبه هيكل سيارات السبا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3.0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 ( مصممة على هيكل يشبه هيكل سيارات السبا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2.2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 ديز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2.2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 ديزل مزود بجهاز سرع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سؤال </a:t>
            </a: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إجاب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مبي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8:57:17Z</dcterms:created>
  <dc:creator>12:54</dc:creator>
  <dc:description/>
  <dc:language>en-US</dc:language>
  <cp:lastModifiedBy>ويره</cp:lastModifiedBy>
  <dcterms:modified xsi:type="dcterms:W3CDTF">2007-03-09T00:57:47Z</dcterms:modified>
  <cp:revision>17</cp:revision>
  <dc:subject/>
  <dc:title>TFE 1200</dc:title>
</cp:coreProperties>
</file>