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E78-71F6-475B-83D0-4E5C532D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2FB-C237-44AA-933E-57895CC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FD6-A27A-4236-B689-A98618D7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FED-E8DC-4A58-AAD2-01F3D7FC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E1A7-9A3A-4CB4-B4B9-CD90293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082A-03C3-40E8-8057-A3D93A36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BBD-306D-4C17-BE79-D627D8CC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CA48-DD26-4934-84DF-C7757D8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B45E-AB26-4D2F-8DEA-CC028DF3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14440" y="857160"/>
            <a:ext cx="58291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4829-0CCB-41C2-A7B6-747838D6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442-F774-4896-800D-680ACCA6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F47-58B2-44D1-81D6-5C46E7D9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F08-C03A-4835-B4C7-B937B68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C596-EC34-4A18-9A47-F19D6628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1679-B223-474C-A076-7FDE6F9D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1FE8-79B4-4FF3-9151-F507554C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5E3C-B966-44C0-A33A-64F9EEB5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808-5E25-409B-8782-081D37CF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979-73B5-409E-ABDB-1767C1E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A70-CFF2-4A5C-AED7-4C7B3FB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4440" y="857160"/>
            <a:ext cx="58291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AF2-62D8-4ED1-BCE2-AE5C91C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AC7-314A-4FE9-B873-3271639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AF0-DFBE-478B-AFA1-3676C0C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E10-D33A-462B-8099-78963F3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36320" y="0"/>
            <a:ext cx="9175680" cy="9747360"/>
            <a:chOff x="-2236320" y="0"/>
            <a:chExt cx="9175680" cy="9747360"/>
          </a:xfrm>
        </p:grpSpPr>
        <p:sp>
          <p:nvSpPr>
            <p:cNvPr id="1" name=""/>
            <p:cNvSpPr/>
            <p:nvPr/>
          </p:nvSpPr>
          <p:spPr>
            <a:xfrm>
              <a:off x="1942920" y="8280"/>
              <a:ext cx="2067840" cy="91706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0"/>
              <a:ext cx="2068200" cy="91623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57520" y="10440"/>
              <a:ext cx="2070360" cy="916452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286000" y="0"/>
              <a:ext cx="2476440" cy="91519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9320" y="224280"/>
              <a:ext cx="4172040" cy="3250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-213120" y="2106720"/>
              <a:ext cx="5384520" cy="1199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8640" y="122760"/>
              <a:ext cx="4172040" cy="3250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2793960" y="2932920"/>
              <a:ext cx="7416360" cy="1828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1584360" y="1951200"/>
              <a:ext cx="4278960" cy="3672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212560" y="1849680"/>
              <a:ext cx="4171680" cy="32511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059800" y="3960"/>
              <a:ext cx="1296720" cy="48358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8294760"/>
              <a:ext cx="6858000" cy="9140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942920" y="8391960"/>
              <a:ext cx="2067840" cy="8082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8391960"/>
              <a:ext cx="2068200" cy="806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57520" y="8391960"/>
              <a:ext cx="2070360" cy="8082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8391960"/>
              <a:ext cx="2476440" cy="806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8283960"/>
              <a:ext cx="6858000" cy="9140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075120" y="8311320"/>
              <a:ext cx="1233360" cy="88884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1277280" y="8466120"/>
              <a:ext cx="2243520" cy="571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419760" y="8466120"/>
              <a:ext cx="2243520" cy="571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-443160" y="8402400"/>
              <a:ext cx="2188800" cy="579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684720" y="8294040"/>
              <a:ext cx="422892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285120" y="8294040"/>
              <a:ext cx="182880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3614040" y="8395560"/>
              <a:ext cx="1585800" cy="810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4743360" y="8294040"/>
              <a:ext cx="182880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4114800" y="8294040"/>
              <a:ext cx="274320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8339400"/>
              <a:ext cx="6858000" cy="291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534600" y="8418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2363400" y="84182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4935240" y="8418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411-20B5-46C2-B01B-AB88214871F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2236680" y="-19080"/>
            <a:ext cx="9175680" cy="9180720"/>
            <a:chOff x="-2236680" y="-19080"/>
            <a:chExt cx="9175680" cy="9180720"/>
          </a:xfrm>
        </p:grpSpPr>
        <p:sp>
          <p:nvSpPr>
            <p:cNvPr id="70" name=""/>
            <p:cNvSpPr/>
            <p:nvPr/>
          </p:nvSpPr>
          <p:spPr>
            <a:xfrm>
              <a:off x="1942920" y="-10080"/>
              <a:ext cx="2067480" cy="9171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4400"/>
              <a:ext cx="2067840" cy="9163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7160" y="-8280"/>
              <a:ext cx="2070360" cy="91656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5640" y="-19080"/>
              <a:ext cx="2476080" cy="91530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8960" y="205560"/>
              <a:ext cx="4171680" cy="32511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-214560" y="2088360"/>
              <a:ext cx="5385240" cy="1199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8640" y="103680"/>
              <a:ext cx="4171680" cy="32511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2794320" y="2914920"/>
              <a:ext cx="7417440" cy="1828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1584360" y="1932480"/>
              <a:ext cx="4278960" cy="3672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212560" y="1830600"/>
              <a:ext cx="4171320" cy="3251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59800" y="-14400"/>
              <a:ext cx="1296720" cy="48366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167080"/>
              <a:ext cx="685764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42920" y="5264280"/>
              <a:ext cx="2067480" cy="8082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264280"/>
              <a:ext cx="2067840" cy="806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7160" y="5264280"/>
              <a:ext cx="2070360" cy="8082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5640" y="5264280"/>
              <a:ext cx="2476080" cy="8064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0" y="5198760"/>
              <a:ext cx="6857640" cy="9144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75120" y="5183640"/>
              <a:ext cx="1233360" cy="88884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77640" y="5338440"/>
              <a:ext cx="2243520" cy="570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20480" y="5338440"/>
              <a:ext cx="2243520" cy="570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-443160" y="5274720"/>
              <a:ext cx="2188800" cy="579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85080" y="5167080"/>
              <a:ext cx="422856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85120" y="5167080"/>
              <a:ext cx="182880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613680" y="5268600"/>
              <a:ext cx="1585800" cy="810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743000" y="5167080"/>
              <a:ext cx="182880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113720" y="5167080"/>
              <a:ext cx="274284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211720"/>
              <a:ext cx="6857640" cy="291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096240"/>
              <a:ext cx="6857640" cy="1218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7213680"/>
              <a:ext cx="6857640" cy="1930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935640" y="3492720"/>
              <a:ext cx="2426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120" y="2539800"/>
            <a:ext cx="542916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514080" y="843264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49150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F1D-8E95-4FF5-907B-D086446C49A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120" y="2539800"/>
            <a:ext cx="5429160" cy="25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مكونات الحاسوب الشخصي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42640" y="82296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مع تلميحات إضافية للعروض التقدي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396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09588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AE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إنجاز ل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قطع الخارجي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صندوق وجهاز تغذية التيار الكهربائي: للحاسوب الشخصي المنزل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بصورة عامة يتوفر جهاز تغذية التيار الكهربائي مع الصندو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شاشة: للاستخدام المنزل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تتوفر الشاشة بقدرات متعددة الوسائط مبينة داخلي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فأرة يمكن أن تكون عاملة بالأشعة تحت الحمراء، أو بسلك، أو بعجل، أو مخصصة للشبكة العنكبية (الإنترنت) أو حتى مختلفة تماماً مثل كرة الأثي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لوحة المفاتيح: يمكن أن تكون خاصة بالشبكة العنكبية (الإنترنت) ومفتاح واحد للعمليات الأساسية، أو الأساليب التقليدية البسيطة، أو بس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طابعة: للاستعمال المنزلي، ويكفي طابعة متوسطة تعمل بنفث الحبر تكون مناس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14440" y="782316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0000"/>
                </a:solidFill>
                <a:latin typeface="Arial"/>
                <a:cs typeface="Arial"/>
              </a:rPr>
              <a:t>فكر في مجالات استخدامك للحاسوب . سيساعدك ذلك على شراء المكونات الصحيح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315200"/>
            <a:ext cx="2400480" cy="40644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9ce157"/>
                </a:solidFill>
                <a:latin typeface="Arial"/>
                <a:cs typeface="Arial"/>
              </a:rPr>
              <a:t>تلميح</a:t>
            </a:r>
            <a:r>
              <a:rPr b="1" lang="en-US" sz="1600" spc="-1" strike="noStrike">
                <a:solidFill>
                  <a:srgbClr val="9ce157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قطع الداخلي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قرص الصلب: اختر قرصاً ذي سعة أكبر وسرعة أعلى ضمن ميزانيت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لوحة الأم: اختر الأحدث وبدون جرافيك وبطاقة الصوت داخ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معالج الدقيق: يتم تحديث المعالجات بسرعة كبيرة جداً لذلك قم بشراء ما يتناسب مع ميزانيت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ذاكرة الوصول العشوائي: يمكن أن تتذبذب أسعارها لذا انتظر الوقت المناسب. . . تتراوح الأسعار بين أسبوع وآخ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جرافيك وبطاقات الصوت: هناك الكثير منها لذا من الأفضل إيجاد ما يتناسب مع ميزانيت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VD/CDROM/CDRW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: هناك العديد من الأنواع، من الأفضل أن تفكر جيداً فيما تحتاجه فعلاً، ويمكنك إضافتها لاحق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قرص المرن: الكثير من المحركات ما زالت تعمل بأقراص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3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9360" y="795672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س من الضروري شراء جميع المكونات من نفس المكان. حاول إجراء بعض المقارنات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315200"/>
            <a:ext cx="2400480" cy="40644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9ce157"/>
                </a:solidFill>
                <a:latin typeface="Times New Roman"/>
                <a:cs typeface="Times New Roman"/>
              </a:rPr>
              <a:t>تلميح</a:t>
            </a:r>
            <a:r>
              <a:rPr b="1" lang="en-US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589720" y="6588000"/>
          <a:ext cx="92556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89720" y="6588000"/>
                    <a:ext cx="925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تكاليف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1979640"/>
            <a:ext cx="5829120" cy="493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224"/>
              </a:spcBef>
              <a:buSzPct val="3104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صندوق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TX Tower</a:t>
            </a:r>
            <a:r>
              <a:rPr b="0" lang="ar-AE" sz="900" spc="-1" strike="noStrike">
                <a:solidFill>
                  <a:srgbClr val="ffffff"/>
                </a:solidFill>
                <a:latin typeface="Arial"/>
                <a:ea typeface="Arial"/>
              </a:rPr>
              <a:t>: 38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معالج دقي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3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: 168.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لوحة الأم نو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0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ذاكرة الوصول العشوائ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28MB SDRAM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11.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بطاقة الجرافي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aph Co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8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قرص الصلب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40.1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ig UDMA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63.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0X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3.5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محرك أقراص مرنة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14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فأرة و لوحة المفاتيح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38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شاشة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“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89.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تركيب  والاختبار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5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تذكر اختلاف الأسعار بين أسبوع وآخ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112160"/>
            <a:ext cx="2400480" cy="40608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9ce157"/>
                </a:solidFill>
                <a:latin typeface="Times New Roman"/>
                <a:cs typeface="Times New Roman"/>
              </a:rPr>
              <a:t>تلميح</a:t>
            </a:r>
            <a:r>
              <a:rPr b="1" lang="en-US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0280" y="468360"/>
            <a:ext cx="5829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ائماً اختبر الأجهزة قبل أن تسليمها إلى عميلك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إجراءات الأمان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cs typeface="Arial"/>
              </a:rPr>
              <a:t>تأكد من فصل التيار الكهربائي عن جهاز الحاسوب قبل بدء العمل ضمن مكونات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راجع تعليمات الصحة والأمان الموجودة في آخر المحاضر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164360"/>
            <a:ext cx="2400480" cy="36036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للمزيد من التعليمات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ميزات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9040" y="2411280"/>
            <a:ext cx="2838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مع بعض التعليمات الإضافي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لتوصيل العروض التقدي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59920" y="2556000"/>
            <a:ext cx="2838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119232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دعم الفني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cs typeface="Arial"/>
              </a:rPr>
              <a:t>دعم ضمن موقعنا على الشبكة العنكبية (الإنترنت) لمدة ثلاثة أشه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cs typeface="Arial"/>
              </a:rPr>
              <a:t>صيانة الجهاز خلال ستة أشهر ضمن مبنى الشرك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0:01:01Z</dcterms:created>
  <dc:creator>Administrator</dc:creator>
  <dc:description/>
  <dc:language>en-US</dc:language>
  <cp:lastModifiedBy>ويره</cp:lastModifiedBy>
  <dcterms:modified xsi:type="dcterms:W3CDTF">2007-03-08T15:41:30Z</dcterms:modified>
  <cp:revision>30</cp:revision>
  <dc:subject/>
  <dc:title>The components of a P.C.</dc:title>
</cp:coreProperties>
</file>