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D24F-1A95-408B-80AD-E5B0BD5F7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5A07-1EB4-4FF3-9F03-98A36BFDD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4622-3A43-430A-8B18-0C2D28965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A196-E42B-43BA-9607-040A8EEB1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DF99-E818-4226-A54B-E1DF7F332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9E24-BBD1-4624-B0F7-062C33BDD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97E5-6B0E-417D-9AFA-BF73BF1F8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8FB5-060D-493C-AD45-6E14EC938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DE30-0E8F-44A1-AECC-2E60FC7C8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8ECF-9109-457B-A0D9-013EF4204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DF99-4D03-4F78-98E3-C54791771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A9F9-24EF-46FC-9D2C-BFED11EA2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356BA-933A-42CD-B6AD-9448B17394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56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</a:rPr>
              <a:t>السيار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</a:rPr>
              <a:t>المظه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915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0T07:23:16Z</dcterms:created>
  <dc:creator>MohdA</dc:creator>
  <dc:description/>
  <dc:language>en-US</dc:language>
  <cp:lastModifiedBy>Andaleeb</cp:lastModifiedBy>
  <dcterms:modified xsi:type="dcterms:W3CDTF">2004-08-11T17:21:54Z</dcterms:modified>
  <cp:revision>3</cp:revision>
  <dc:subject/>
  <dc:title>ZTER4560</dc:title>
</cp:coreProperties>
</file>