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BA0B-F265-413E-AEFA-6BA9531D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4BB1-7FFF-45E3-B0F1-0F60A08A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8A56-DDBB-41FB-A01A-04C7A036B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CF7F-07FE-4810-A745-546FCB355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27AC-22D9-4C53-85B5-DBE0BE43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4D77-2E0B-4720-8EF5-DA97196A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50DE-5267-4C15-8EF7-857BF016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EAC8-8D5F-4264-B327-852A2112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D5CA-8022-43C7-AD99-DA46B13E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08BE-0F87-4B5E-B10F-736A5820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E276-3062-41AC-A376-C97A1A08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AE06-9B52-413D-951F-5DF4BCFD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1C39-2F42-478E-B04E-2B55BCF71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89000"/>
            <a:ext cx="3276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45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88000" y="5157720"/>
            <a:ext cx="40640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آلة الرياض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جدي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89744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سيا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مظه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8218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أدا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0T07:03:18Z</dcterms:created>
  <dc:creator>MohdA</dc:creator>
  <dc:description/>
  <dc:language>en-US</dc:language>
  <cp:lastModifiedBy>Andaleeb</cp:lastModifiedBy>
  <dcterms:modified xsi:type="dcterms:W3CDTF">2004-08-11T17:21:43Z</dcterms:modified>
  <cp:revision>2</cp:revision>
  <dc:subject/>
  <dc:title>الشريحة 1</dc:title>
</cp:coreProperties>
</file>