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2CA-EB62-4C15-A3E4-FA619D97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64E-BB9C-44B4-88E2-3DE1A8B8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BE5-DBD0-4095-986C-490CA530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034-D2FA-4EE5-B27D-6177988E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2FB2-1C79-479E-A410-D6086D1D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84A9-CC3E-4696-A983-7EA0EA0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077B-802F-488F-8531-E5530AC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BDCB-B72E-42E5-A8B2-35A9D54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822-578A-4CB7-AB6B-11F0158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A4D-1B1C-4D28-9D76-27444426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862-F05E-4E31-A5B8-AD6D8C8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8BD-E6F6-4B76-8AC3-F962B48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73C5-B246-4EE5-8C85-86938FE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7F5-8272-4AD8-A105-3A96AA9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762E-35D2-4CBA-91E6-74B7CE9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6BC5-2F12-4DD1-8DA7-91601CEB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8C95-2998-45D3-A07E-7049182B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C41-689A-4BDA-ABE3-FAF870F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3E8-8FB2-4ECE-A860-523A70C1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0C4-DA43-4270-86AA-A4F86B9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E63-8245-4AD4-BB59-244FAF85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4AF-1B00-4B2D-ADAC-0834B2C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CA3-18DD-4C78-94EB-686D6C3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118-0F5A-4922-B275-7DDDAC51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8320" y="652680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972-8670-468D-83CC-A59EEA62C401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AA1-9625-469E-8FE7-E0955BD4815F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شركة حماية البيئ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2420640"/>
            <a:ext cx="3898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نحن شركة تعمل للحفاظ على البيئة منذ العام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  <a:ea typeface="Arabic Transparent"/>
              </a:rPr>
              <a:t>199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حي التعاو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شارع السلا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تقاطع الأنها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345600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08360" y="333360"/>
            <a:ext cx="1600200" cy="14479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زجاج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39840" y="3238560"/>
          <a:ext cx="735156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3238560"/>
                    <a:ext cx="735156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هدف من إعادة التصني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2361960"/>
            <a:ext cx="8664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يتخلص كل منزل من النفايات بمعدل ا طن سنويا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ولا توجد أماكن كافية لردم هذه النفايات أو احراقها.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ويعادل هذا الوزن وزن جميع الأشخاص في المدين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171360"/>
            <a:ext cx="2641680" cy="800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اذا يمكنك إعادة تصنيعه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6201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عيد شركة حماية البيئة تصنيع العديد من الموا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3040" y="825480"/>
          <a:ext cx="8877600" cy="876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825480"/>
                    <a:ext cx="8877600" cy="876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14400" y="5562720"/>
            <a:ext cx="1600200" cy="10666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67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رسم البياني لإعادة التصنيع خلال الربع الأو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7440" y="2286000"/>
          <a:ext cx="748512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286000"/>
                    <a:ext cx="748512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خطط الإدار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كيف نقدم المساعد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زيادة عدد حاويات إعادة     التصني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توسيع رقعة نشاط              الشرك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توعية الناس بأهمية إعادة    التصنيع</a:t>
            </a:r>
            <a:r>
              <a:rPr b="0" lang="ar-SA" sz="2400" spc="-1" strike="noStrike">
                <a:solidFill>
                  <a:srgbClr val="003366"/>
                </a:solidFill>
                <a:latin typeface="Verdana"/>
                <a:ea typeface="Arabic Transparent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زيادة عدد مراكز إعادة       التصني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2362320"/>
          <a:ext cx="1931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193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ور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70520" y="3488400"/>
            <a:ext cx="5116320" cy="1272600"/>
            <a:chOff x="2270520" y="3488400"/>
            <a:chExt cx="5116320" cy="1272600"/>
          </a:xfrm>
        </p:grpSpPr>
        <p:cxnSp>
          <p:nvCxnSpPr>
            <p:cNvPr id="115" name="_s23564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617080" y="3253680"/>
              <a:ext cx="216720" cy="1791360"/>
            </a:xfrm>
            <a:prstGeom prst="bentConnector3">
              <a:avLst>
                <a:gd name="adj1" fmla="val 4991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8" name="_s23562"/>
            <p:cNvCxnSpPr>
              <a:stCxn id="119" idx="0"/>
              <a:endCxn id="117" idx="2"/>
            </p:cNvCxnSpPr>
            <p:nvPr/>
          </p:nvCxnSpPr>
          <p:spPr>
            <a:xfrm flipV="1">
              <a:off x="4829760" y="4041360"/>
              <a:ext cx="2520" cy="216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0" name="_s23560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826080" y="3254040"/>
              <a:ext cx="216720" cy="1791360"/>
            </a:xfrm>
            <a:prstGeom prst="bentConnector3">
              <a:avLst>
                <a:gd name="adj1" fmla="val 4991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7" name="_s23558"/>
            <p:cNvSpPr/>
            <p:nvPr/>
          </p:nvSpPr>
          <p:spPr>
            <a:xfrm>
              <a:off x="3844800" y="3488400"/>
              <a:ext cx="1968480" cy="553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أنواع الورق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_s23559"/>
            <p:cNvSpPr/>
            <p:nvPr/>
          </p:nvSpPr>
          <p:spPr>
            <a:xfrm>
              <a:off x="2270520" y="4257720"/>
              <a:ext cx="153504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3366"/>
                  </a:solidFill>
                  <a:latin typeface="Times New Roman"/>
                  <a:cs typeface="Times New Roman"/>
                </a:rPr>
                <a:t>ورق مقوى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_s23561"/>
            <p:cNvSpPr/>
            <p:nvPr/>
          </p:nvSpPr>
          <p:spPr>
            <a:xfrm>
              <a:off x="4061520" y="4257720"/>
              <a:ext cx="153504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مجلات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_s23563"/>
            <p:cNvSpPr/>
            <p:nvPr/>
          </p:nvSpPr>
          <p:spPr>
            <a:xfrm>
              <a:off x="5852160" y="4257720"/>
              <a:ext cx="153468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صحف يومية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ألمنيو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040" y="2361960"/>
            <a:ext cx="8001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لاحظات حول مستقبل أفض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720" y="2708280"/>
            <a:ext cx="4471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ستخدام الأكياس البلاستيكية أكثر من مر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عادة تصنيع الكؤوس والقواري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ستخدام بقايا الخضار والفواكه كسماد طبيع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16000" y="2708280"/>
            <a:ext cx="2895480" cy="2346480"/>
            <a:chOff x="1116000" y="2708280"/>
            <a:chExt cx="2895480" cy="234648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116000" y="2708280"/>
              <a:ext cx="28954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16000" y="2708280"/>
              <a:ext cx="2895480" cy="23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MohdA</cp:lastModifiedBy>
  <dcterms:modified xsi:type="dcterms:W3CDTF">2004-08-05T12:22:51Z</dcterms:modified>
  <cp:revision>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