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E70-6555-4220-B479-B4E9F2FC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B37-655C-4769-A184-1580268C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434-9656-471C-B6D3-669C261A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5F7-4A42-4098-B248-FBA561A9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43A-A4DF-463E-8318-6574CFC3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0E5-60DC-413E-B967-13E16532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1F2-7F1F-4E5E-8AC0-F0B3B3C4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E2E-3F64-411D-9218-384E50E7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B6B-92BB-4913-929F-C5914016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154-093C-4B34-9F38-A5A97F0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46E-6647-4BF6-98EF-19BE99A9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C6C-7310-4658-BA72-9B68DB25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A3A7-9CDB-4365-935D-9B165DF1235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وض التقديمية على الحاسوب</a:t>
            </a:r>
            <a:br>
              <a:rPr sz="4400"/>
            </a:b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رير السنو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057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صف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ر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2096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ى الآن لم يتم نشر التفاصيل الكاملة للتقا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جاء مراجعة الموقع قبل الخامس والعشرين من الشهر الحالي للحصول على التقرير الكا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أسف لهذا التأخ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22:58Z</dcterms:created>
  <dc:creator>Roger</dc:creator>
  <dc:description/>
  <dc:language>en-US</dc:language>
  <cp:lastModifiedBy>MohdA</cp:lastModifiedBy>
  <dcterms:modified xsi:type="dcterms:W3CDTF">2004-08-07T15:28:34Z</dcterms:modified>
  <cp:revision>20</cp:revision>
  <dc:subject/>
  <dc:title>Computer Presen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