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F71-AD01-487F-B3CC-179A3195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CFF-B4E7-485E-80D4-6B383B37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C75-E71B-4DE5-8EBE-2AACF940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B8A-63B8-4B57-B927-D4CD6431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278E-8B4C-4E26-AFDE-745E83FA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6DA3-4EAB-4CB6-8520-E0AEA141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B7B3-98EC-4DDD-9C7B-20863E40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9E6A-AD8E-4DC0-9042-C2F46F49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1A34-603E-4F70-ABA2-6E8780B6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F14F-F6F3-47E8-937F-A8533313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9E22-0E27-4803-AF3B-F9FE498B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166-0A03-4177-BC0B-461C638C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73D2-8E2F-47BF-BC84-B8C1745F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08E9-BD80-4009-9B22-AB665993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E7EE-1B38-4F17-90FA-FCD38E40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01F8-033F-449B-9E29-67EB10FB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FE4D-F729-4778-9918-1B425A31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970-0FB0-4336-9936-B471B313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2C2-4563-471E-9BEF-CD819B0C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7B0-959F-43C7-8C3E-EB269F39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B45-7776-4C81-AF45-9F94A794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3E3-4606-4F57-BE29-AA889AA5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619-CBA1-40A1-A329-156D38ED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9B8-B25B-44E6-9C66-21F79500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D171-4579-4111-8D44-1D417B70E22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88A6-F9B7-4D36-A968-DE0D77D0217A}" type="slidenum"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imes New Roman"/>
              </a:rPr>
              <a:t>ثانوية الكند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760" y="346500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الطريق الرئيسي جانب فندق الشل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تأسست في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19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35276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imes New Roman"/>
              </a:rPr>
              <a:t>حول ثانوية الكند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2033280"/>
            <a:ext cx="518472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 تزال المدرسة في هذا الموقع منذ عام</a:t>
            </a:r>
            <a:r>
              <a:rPr b="0" lang="ar-A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دم العديد من التسهيل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imes New Roman"/>
              </a:rPr>
              <a:t>استخدام أحدث التقنيا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imes New Roman"/>
              </a:rPr>
              <a:t>ملعب للتنس وصالة لياقة بدنية مجهزة بأحدث الوسائ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imes New Roman"/>
              </a:rPr>
              <a:t>تعليم المبادئ الأساسية لاستخدام الحاس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24019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37:04Z</dcterms:created>
  <dc:creator>Roger</dc:creator>
  <dc:description/>
  <dc:language>en-US</dc:language>
  <cp:lastModifiedBy>Andaleeb</cp:lastModifiedBy>
  <dcterms:modified xsi:type="dcterms:W3CDTF">2004-08-11T16:21:30Z</dcterms:modified>
  <cp:revision>2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nccwork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