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CARBRAKE.WAV" ContentType="audio/x-wav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878-F0F2-4E66-B0AB-DAB3CCB0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F21-56CC-4448-B988-5E69C256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AB7-F22A-43EB-B700-A8DB6CEB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344-7E63-4F3D-ACF6-804CF666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470F-EABB-4DED-BF67-A3EBB265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911E-2FA8-4717-BF44-21571594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4A6A-B14B-468A-B928-FB22C2BC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D430-F9F4-42F0-A8D0-B49C0740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9248-A530-4432-8C15-4328738C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2BCC-FEE8-4743-8439-C73AFF1C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038E-1306-422A-ACFF-E6385867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DED-B12A-47EE-86EE-83EAE479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276A-1828-4C7F-A88D-5E13630E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96CA-F9D1-42C9-AE7F-0DB559C6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6ED0-FC19-4EDC-A17F-AEEA4D98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0F43-89BE-4FFA-82AA-4DC7B42E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6B8F-CE09-4DF1-B59F-5C1A5E58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E8A-40E5-42C0-94EB-AE35522A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3DD-C9CC-4E22-B9B3-3E1D7F5C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7A1-C24D-49A4-AB25-433CB725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F77-CF5E-435E-9C27-E7A014F5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850-70E4-40E2-9AE1-3E347CAF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F0D-22D9-41DC-9790-64C676A8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F08-3F0D-41CC-B680-BBF9BE22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08366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43FF-0230-424A-BD2A-2CCA4AA51D87}" type="slidenum">
              <a:rPr b="0" lang="ar-SA" sz="14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08366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C1E5-DADA-47AA-BCFD-485E2A854514}" type="slidenum">
              <a:rPr b="0" lang="ar-SA" sz="14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360" y="3738600"/>
            <a:ext cx="784836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08366"/>
                </a:solidFill>
                <a:latin typeface="Arial"/>
                <a:cs typeface="Arial"/>
              </a:rPr>
              <a:t>مخطط تفصيلي للتقنيات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133720" y="4419720"/>
            <a:ext cx="5181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402000"/>
                </a:solidFill>
                <a:latin typeface="Times New Roman"/>
                <a:cs typeface="Arial"/>
              </a:rPr>
              <a:t>أحمد</a:t>
            </a:r>
            <a:r>
              <a:rPr b="0" lang="ar-SA" sz="1200" spc="-1" strike="noStrike">
                <a:solidFill>
                  <a:srgbClr val="402000"/>
                </a:solidFill>
                <a:latin typeface="Times New Roman"/>
                <a:ea typeface="Arial"/>
              </a:rPr>
              <a:t>: من فضلك افحص الإملاء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805360"/>
            <a:ext cx="3059280" cy="2890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cs typeface="Times New Roman"/>
              </a:rPr>
              <a:t>مثال عن النموذج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369520" y="2424960"/>
            <a:ext cx="4861440" cy="1601280"/>
            <a:chOff x="2369520" y="2424960"/>
            <a:chExt cx="4861440" cy="1601280"/>
          </a:xfrm>
        </p:grpSpPr>
        <p:cxnSp>
          <p:nvCxnSpPr>
            <p:cNvPr id="147" name="_s22555"/>
            <p:cNvCxnSpPr>
              <a:stCxn id="148" idx="0"/>
              <a:endCxn id="149" idx="2"/>
            </p:cNvCxnSpPr>
            <p:nvPr/>
          </p:nvCxnSpPr>
          <p:spPr>
            <a:xfrm flipH="1" flipV="1" rot="5400000">
              <a:off x="4701960" y="3524040"/>
              <a:ext cx="196560" cy="2160"/>
            </a:xfrm>
            <a:prstGeom prst="bentConnector3">
              <a:avLst>
                <a:gd name="adj1" fmla="val 49908"/>
              </a:avLst>
            </a:prstGeom>
            <a:ln w="12600">
              <a:solidFill>
                <a:srgbClr val="402000"/>
              </a:solidFill>
              <a:miter/>
            </a:ln>
          </p:spPr>
        </p:cxnSp>
        <p:cxnSp>
          <p:nvCxnSpPr>
            <p:cNvPr id="150" name="_s22556"/>
            <p:cNvCxnSpPr>
              <a:stCxn id="151" idx="0"/>
              <a:endCxn id="152" idx="2"/>
            </p:cNvCxnSpPr>
            <p:nvPr/>
          </p:nvCxnSpPr>
          <p:spPr>
            <a:xfrm flipV="1" rot="16200000">
              <a:off x="5547600" y="2078640"/>
              <a:ext cx="196560" cy="1693800"/>
            </a:xfrm>
            <a:prstGeom prst="bentConnector3">
              <a:avLst>
                <a:gd name="adj1" fmla="val 49908"/>
              </a:avLst>
            </a:prstGeom>
            <a:ln w="12600">
              <a:solidFill>
                <a:srgbClr val="402000"/>
              </a:solidFill>
              <a:miter/>
            </a:ln>
          </p:spPr>
        </p:cxnSp>
        <p:cxnSp>
          <p:nvCxnSpPr>
            <p:cNvPr id="153" name="_s22557"/>
            <p:cNvCxnSpPr>
              <a:stCxn id="149" idx="0"/>
              <a:endCxn id="152" idx="2"/>
            </p:cNvCxnSpPr>
            <p:nvPr/>
          </p:nvCxnSpPr>
          <p:spPr>
            <a:xfrm flipV="1" rot="16200000">
              <a:off x="4701960" y="2924280"/>
              <a:ext cx="196560" cy="2160"/>
            </a:xfrm>
            <a:prstGeom prst="bentConnector3">
              <a:avLst>
                <a:gd name="adj1" fmla="val 49908"/>
              </a:avLst>
            </a:prstGeom>
            <a:ln w="12600">
              <a:solidFill>
                <a:srgbClr val="402000"/>
              </a:solidFill>
              <a:miter/>
            </a:ln>
          </p:spPr>
        </p:cxnSp>
        <p:cxnSp>
          <p:nvCxnSpPr>
            <p:cNvPr id="154" name="_s22558"/>
            <p:cNvCxnSpPr>
              <a:stCxn id="155" idx="0"/>
              <a:endCxn id="152" idx="2"/>
            </p:cNvCxnSpPr>
            <p:nvPr/>
          </p:nvCxnSpPr>
          <p:spPr>
            <a:xfrm flipH="1" flipV="1" rot="5400000">
              <a:off x="3855960" y="2080440"/>
              <a:ext cx="196560" cy="1690560"/>
            </a:xfrm>
            <a:prstGeom prst="bentConnector3">
              <a:avLst>
                <a:gd name="adj1" fmla="val 49908"/>
              </a:avLst>
            </a:prstGeom>
            <a:ln w="12600">
              <a:solidFill>
                <a:srgbClr val="402000"/>
              </a:solidFill>
              <a:miter/>
            </a:ln>
          </p:spPr>
        </p:cxnSp>
        <p:sp>
          <p:nvSpPr>
            <p:cNvPr id="152" name="_s22559"/>
            <p:cNvSpPr/>
            <p:nvPr/>
          </p:nvSpPr>
          <p:spPr>
            <a:xfrm>
              <a:off x="4160160" y="2424960"/>
              <a:ext cx="1278360" cy="40284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402000"/>
                  </a:solidFill>
                  <a:latin typeface="Arial"/>
                  <a:cs typeface="Arabic Transparent"/>
                </a:rPr>
                <a:t>الإنكليزي</a:t>
              </a:r>
              <a:endParaRPr b="0" lang="en-US" sz="2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_s22560"/>
            <p:cNvSpPr/>
            <p:nvPr/>
          </p:nvSpPr>
          <p:spPr>
            <a:xfrm>
              <a:off x="2369520" y="3024000"/>
              <a:ext cx="1478520" cy="40320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402000"/>
                  </a:solidFill>
                  <a:latin typeface="Arial"/>
                  <a:cs typeface="Arabic Transparent"/>
                </a:rPr>
                <a:t>القواعد</a:t>
              </a:r>
              <a:endParaRPr b="0" lang="en-US" sz="2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_s22561"/>
            <p:cNvSpPr/>
            <p:nvPr/>
          </p:nvSpPr>
          <p:spPr>
            <a:xfrm>
              <a:off x="4061160" y="3024000"/>
              <a:ext cx="1478160" cy="40320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402000"/>
                  </a:solidFill>
                  <a:latin typeface="Arial"/>
                  <a:cs typeface="Arabic Transparent"/>
                </a:rPr>
                <a:t>الأدب</a:t>
              </a:r>
              <a:endParaRPr b="0" lang="en-US" sz="2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_s22562"/>
            <p:cNvSpPr/>
            <p:nvPr/>
          </p:nvSpPr>
          <p:spPr>
            <a:xfrm>
              <a:off x="5752800" y="3024000"/>
              <a:ext cx="1478160" cy="40320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402000"/>
                  </a:solidFill>
                  <a:latin typeface="Arial"/>
                  <a:cs typeface="Arabic Transparent"/>
                </a:rPr>
                <a:t>علم الصوتيات</a:t>
              </a:r>
              <a:endParaRPr b="0" lang="en-US" sz="2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_s22563"/>
            <p:cNvSpPr/>
            <p:nvPr/>
          </p:nvSpPr>
          <p:spPr>
            <a:xfrm>
              <a:off x="4160160" y="3623400"/>
              <a:ext cx="1278360" cy="40284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402000"/>
                  </a:solidFill>
                  <a:latin typeface="Arial"/>
                  <a:cs typeface="Arabic Transparent"/>
                </a:rPr>
                <a:t>الرواية</a:t>
              </a:r>
              <a:endParaRPr b="0" lang="en-US" sz="2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0" y="5805360"/>
            <a:ext cx="3059280" cy="2890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000" spc="-1" strike="noStrike">
                <a:solidFill>
                  <a:srgbClr val="996633"/>
                </a:solidFill>
                <a:latin typeface="Times New Roman"/>
                <a:cs typeface="Times New Roman"/>
              </a:rPr>
              <a:t>وأخيراً...</a:t>
            </a:r>
            <a:br>
              <a:rPr sz="4000"/>
            </a:b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447920" y="21337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0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خذ استراحة</a:t>
            </a:r>
            <a:r>
              <a:rPr b="0" i="1" lang="ar-SA" sz="40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!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35268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لا يمكن لأي شخص أن يعمل بشكل متواصل لساعات طويلة دون اخذ فترات من الراحة.</a:t>
            </a:r>
            <a:endParaRPr b="0" lang="en-US" sz="4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805360"/>
            <a:ext cx="3059280" cy="2890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96633"/>
                </a:solidFill>
                <a:latin typeface="Times New Roman"/>
                <a:cs typeface="Times New Roman"/>
              </a:rPr>
              <a:t>هيئة المراجعة</a:t>
            </a:r>
            <a:br>
              <a:rPr sz="4000"/>
            </a:b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176364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لدى الكلّيّة موظّفين لمساعدتك في المراجعة. التخطيط الموجود في الأسفل يظهر الموظفين ودورهم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1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cs typeface="Arial"/>
              </a:rPr>
              <a:t>البدء مبكرا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28600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ليس هناك بديل لهذا. حشو المعلومات في الدّقيقة الأخيرة لن يؤدي إلى الاحتفاظ بالمعلومات لفترة طويلة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عندما تكون تحت ضغط وإجهاد الامتحان، يمكن أن تَتَأَثَّر ذاكرة المدّى القصير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إذا بدأت مبكّراً، يمكنك تحمّل قراءة وإعادة قراءة المعلومات التي تريد تذكرها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5805360"/>
            <a:ext cx="3059280" cy="2890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2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المنهج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057400"/>
            <a:ext cx="74674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عند المراجعة، من المستحسن أن يكون معك نسخة من المنهج. هذا سيضمن تغطيتك لكل المواضيع، وتكون قادراً على تسجيل تقدمك في العمل المطلوب. </a:t>
            </a:r>
            <a:endParaRPr b="0" lang="en-US" sz="38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يجب أن تحصل على المنهج من المحاضر، أو المدرّس أو مدرّب.</a:t>
            </a:r>
            <a:endParaRPr b="0" lang="en-US" sz="3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3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جدول المواعيد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219320" y="1752480"/>
          <a:ext cx="746748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752480"/>
                    <a:ext cx="7467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990720" y="3886200"/>
            <a:ext cx="7924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بعد دراسة المنهج، ينبغي أن ترسم جدولاً زمنياً حتى نعرف بالضبط متى تبدأ بكل موضوع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 rtl="1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الجدول الجيد سيمكنك من مراجعة الموضوع مرة أخرى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 rtl="1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805360"/>
            <a:ext cx="3059280" cy="2890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4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اقرأ المذكرات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3000" y="571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حاول إيجاد بعض الكلمات الرّئيسيّة في مذكراتك والتي يمكن أن تستخدمها لتساعدك على التذكر. تلخيص المذكرات باستمرار سيؤدي إلى ذلك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bfae2"/>
                </a:solidFill>
                <a:latin typeface="Arial"/>
                <a:cs typeface="Arial"/>
              </a:rPr>
              <a:t>تلميح مفيد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295280" y="2057400"/>
            <a:ext cx="723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قد يبدو هذا بديهياً، لكنها أحد الأمور التي يغفل عنها دائماً. لقد وجد أن أحد الأساليب الممتازة للمراجعة هي استخدام المذكرات وإعادة كتابتها وتلخيصها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3860640"/>
            <a:ext cx="1873440" cy="1368720"/>
          </a:xfrm>
          <a:prstGeom prst="star5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5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اعمل في مجموعات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العمل في مجموعات يساعدك على تغطية بعض الفجوات التي قد توجد لديك، و من المفيد إجراء اختبارات لبعضكم البعض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5219640" y="1989000"/>
            <a:ext cx="863640" cy="1008360"/>
          </a:xfrm>
          <a:prstGeom prst="upArrow">
            <a:avLst>
              <a:gd name="adj1" fmla="val 50000"/>
              <a:gd name="adj2" fmla="val 29189"/>
            </a:avLst>
          </a:prstGeom>
          <a:solidFill>
            <a:srgbClr val="ce9964"/>
          </a:solidFill>
          <a:ln cap="sq"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805360"/>
            <a:ext cx="3059280" cy="2890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1916280"/>
            <a:ext cx="179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حاول العمل مع أشخاص يريدون المراجعة فعلاً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952880" y="3505320"/>
          <a:ext cx="381024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505320"/>
                    <a:ext cx="3810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6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خرائط العقل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0" y="5805360"/>
            <a:ext cx="3059280" cy="2890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696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لعمل خريطة، اكتب موضوع الدراسة بحروف ملونة كبيرة في وسط الصفحة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اكتب كلمات رئيسية حوله و اربطها بالكلمة المركزية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اربطهم بالعبارة المهمة الأخرى حتى تتكون خريطة واحدة كبيرة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المفتاح لإبراز خريطة عقل مفيدة هو جعلها ملونة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1905120"/>
            <a:ext cx="4608720" cy="1371600"/>
          </a:xfrm>
          <a:prstGeom prst="ellipse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3581280"/>
            <a:ext cx="4608720" cy="1417680"/>
          </a:xfrm>
          <a:prstGeom prst="ellipse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8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الامتحانات السابقة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295280" y="2133720"/>
            <a:ext cx="7162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عندما تعتقد أنّك جاهز، حاول الإجابة على بعض أوراق الامتحانات من السّنوات الأخيرة. هذا سيعطيك إحساس بنوع الأسئلة التي قد تُسأل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805360"/>
            <a:ext cx="3059280" cy="2890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7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الاختبار المنتظم</a:t>
            </a: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57150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02000"/>
                </a:solidFill>
                <a:latin typeface="Arial"/>
                <a:cs typeface="Times New Roman"/>
              </a:rPr>
              <a:t>لا تعدّ أسئلة كثيرة جدًّا في هذه الاختبارات. قم بإعداد مجموعات فرعيّة للمواضيع واختبرها بشكل مستقل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bfae2"/>
                </a:solidFill>
                <a:latin typeface="Arial"/>
                <a:cs typeface="Arial"/>
              </a:rPr>
              <a:t>تلميح مفيد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هذا سيساعدك على إيجاد الفجوات الصغيرة في مراجعتك.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استخدمها بإيجابية، هذه الاختبارات لم تصمم لخداعك لكنّها طريقة عمليّة لإيجاد المواضع التي تتطلب المزيد من الدراسة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43000" y="1886040"/>
          <a:ext cx="3809880" cy="29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886040"/>
                    <a:ext cx="38098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8T12:08:59Z</dcterms:created>
  <dc:creator>swdev</dc:creator>
  <dc:description/>
  <dc:language>en-US</dc:language>
  <cp:lastModifiedBy>Andaleeb</cp:lastModifiedBy>
  <dcterms:modified xsi:type="dcterms:W3CDTF">2004-08-11T17:39:19Z</dcterms:modified>
  <cp:revision>47</cp:revision>
  <dc:subject/>
  <dc:title>Revision Techniques</dc:title>
</cp:coreProperties>
</file>