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591-5D0A-4266-A13B-1B2B28AE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8A4-5B2F-42ED-94C4-BED86C2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BD3-5ACC-4309-A826-0CD338ED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F6C-D435-4642-8F78-CA77CAE9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954-4F37-46D1-A490-358F151D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115-9C99-4D68-B08A-5AAC76D7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940-858A-4BD9-8749-B600E221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7F6-536C-426D-B662-602BB339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396-D6D3-4339-B40D-692081A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00E-35E3-4A52-BC6C-7FB543C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E7B-1164-4391-BEBB-3163F9C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120-4820-459F-B629-DC721147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F767-44B9-4EDC-8235-54EE5CAE3D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حتو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ا هو التسوي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لماذا هو مفي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أهداف التسو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فر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اذا نقد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شاريع الحا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كيف يرفع التسويق م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بييعات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ش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60440" y="2770560"/>
            <a:ext cx="8225640" cy="1685520"/>
            <a:chOff x="460440" y="2770560"/>
            <a:chExt cx="8225640" cy="1685520"/>
          </a:xfrm>
        </p:grpSpPr>
        <p:cxnSp>
          <p:nvCxnSpPr>
            <p:cNvPr id="75" name="_s21516"/>
            <p:cNvCxnSpPr>
              <a:stCxn id="76" idx="0"/>
              <a:endCxn id="77" idx="2"/>
            </p:cNvCxnSpPr>
            <p:nvPr/>
          </p:nvCxnSpPr>
          <p:spPr>
            <a:xfrm flipV="1" rot="16200000">
              <a:off x="5873400" y="2172960"/>
              <a:ext cx="282960" cy="2879280"/>
            </a:xfrm>
            <a:prstGeom prst="bentConnector3">
              <a:avLst>
                <a:gd name="adj1" fmla="val 4993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8" name="_s21514"/>
            <p:cNvCxnSpPr>
              <a:stCxn id="79" idx="0"/>
              <a:endCxn id="77" idx="2"/>
            </p:cNvCxnSpPr>
            <p:nvPr/>
          </p:nvCxnSpPr>
          <p:spPr>
            <a:xfrm flipV="1">
              <a:off x="4575600" y="3471480"/>
              <a:ext cx="3600" cy="282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0" name="_s21512"/>
            <p:cNvCxnSpPr>
              <a:stCxn id="81" idx="0"/>
              <a:endCxn id="77" idx="2"/>
            </p:cNvCxnSpPr>
            <p:nvPr/>
          </p:nvCxnSpPr>
          <p:spPr>
            <a:xfrm flipH="1" flipV="1" rot="5400000">
              <a:off x="2994120" y="2172960"/>
              <a:ext cx="282960" cy="2880000"/>
            </a:xfrm>
            <a:prstGeom prst="bentConnector3">
              <a:avLst>
                <a:gd name="adj1" fmla="val 4993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" name="_s21510"/>
            <p:cNvSpPr/>
            <p:nvPr/>
          </p:nvSpPr>
          <p:spPr>
            <a:xfrm>
              <a:off x="3339720" y="2770560"/>
              <a:ext cx="2467440" cy="7012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سوي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1511"/>
            <p:cNvSpPr/>
            <p:nvPr/>
          </p:nvSpPr>
          <p:spPr>
            <a:xfrm>
              <a:off x="460440" y="3754080"/>
              <a:ext cx="2468160" cy="702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إداريو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1513"/>
            <p:cNvSpPr/>
            <p:nvPr/>
          </p:nvSpPr>
          <p:spPr>
            <a:xfrm>
              <a:off x="3339720" y="3754080"/>
              <a:ext cx="2467440" cy="702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مساعدو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515"/>
            <p:cNvSpPr/>
            <p:nvPr/>
          </p:nvSpPr>
          <p:spPr>
            <a:xfrm>
              <a:off x="6218640" y="3754080"/>
              <a:ext cx="2467440" cy="702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موا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تسويق مهن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نفسنا في مجال الأ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ما هو التسوي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التعرف بالأعمال كعلامات مسج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ضمان المحافظة على الأعمال بأعلى مستو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تطوير أسوا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51200" y="1600200"/>
          <a:ext cx="40309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309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لماذا هو مفيد لن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منتجاتنا المسج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شركتنا للعالم و وكالات الإع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تطوير التسو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إرضاء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5105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أهداف التسوي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غمالنا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 كعلامة مسج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نا بشكل واضح لدى الإعل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سوواقنا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 و منافسين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عرفة و فهم احتياجات عملائن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إنشاء فرص إعل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فري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ماذا نق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شاريع الح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9800" y="1600200"/>
          <a:ext cx="401184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40118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الموقع الإلكت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إطلاق موقع إلكتروني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ضمان تعريف للشركة على مستوً عالٍ على شبكة الإنترن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إعلانات الصح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حملات إعلانية              كبيرة تبدأ من                 الربع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المنافسة في المطبوعات الوط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كيف يرفع التسويق من            المبيع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4038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زيادة الشه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شهرة منتجاتنا المسج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تسجيل اسم الشركة تجار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يؤدي إلى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مبيعات أ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تحقيق رب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68840" y="1600200"/>
          <a:ext cx="3995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8840" y="1600200"/>
                    <a:ext cx="3995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4:17:14Z</dcterms:created>
  <dc:creator>nccworker</dc:creator>
  <dc:description/>
  <dc:language>en-US</dc:language>
  <cp:lastModifiedBy>Andaleeb</cp:lastModifiedBy>
  <dcterms:modified xsi:type="dcterms:W3CDTF">2004-08-11T17:53:05Z</dcterms:modified>
  <cp:revision>10</cp:revision>
  <dc:subject/>
  <dc:title>Contents</dc:title>
</cp:coreProperties>
</file>