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4282-1B22-4E45-B3FA-2C9604B75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3110-AC07-42B2-A4B6-05F5E684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A9C6-BC3B-42D1-92FD-193401C2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1CE9-A660-45D0-BFEA-5C674F679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0178-CB97-455A-9F11-C6F77ABE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F3A6-26E3-41CF-A248-6B8A220A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1C29-D6C5-4636-B3CD-174120D9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E8C9-D86D-48B4-A908-236C90E3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BCB9-FDB8-405E-9F80-03200B95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D903-0EAA-4665-9743-AA930568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421E-1F7C-4989-B46B-AD4214D3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0A40-FBCC-4985-920D-00F3B250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F0DA-37A0-4D72-B203-6AD466A45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3333cc"/>
                </a:solidFill>
                <a:latin typeface="Arial"/>
                <a:cs typeface="Arial"/>
              </a:rPr>
              <a:t>المركز الوطني للحياة البحر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14800" y="5714640"/>
            <a:ext cx="457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3333cc"/>
                </a:solidFill>
                <a:latin typeface="Arial"/>
                <a:cs typeface="Arial"/>
              </a:rPr>
              <a:t>المخلوقات المائ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36576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3333cc"/>
                </a:solidFill>
                <a:latin typeface="Arial"/>
                <a:cs typeface="Arial"/>
              </a:rPr>
              <a:t>القر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تعرف بزعانفها الخلف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تُعد تهديداً حقيقاً لحياة الإنسان إذا تجاوز طولها </a:t>
            </a:r>
            <a:r>
              <a:rPr b="0" lang="ar-AE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5</a:t>
            </a:r>
            <a:r>
              <a:rPr b="0" lang="ar-AE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أقد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أصناف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القرش النم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القرش الثو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القرش الأبيض الضخ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القرش أبو مطر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القرش الحو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38098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3333cc"/>
                </a:solidFill>
                <a:latin typeface="Arial"/>
                <a:cs typeface="Arial"/>
              </a:rPr>
              <a:t>الدولفي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1640" y="181728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تعرف بزعانفها الخلفية، وتصرفاتها المرح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حيوانات أليفة جدا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أصناف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دلفين الأنف المدو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الدلفين الأطلسي المحدب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الدلفين الأسو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2746440"/>
            <a:ext cx="380988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3T11:15:28Z</dcterms:created>
  <dc:creator>HEATHER</dc:creator>
  <dc:description/>
  <dc:language>en-US</dc:language>
  <cp:lastModifiedBy>Andaleeb</cp:lastModifiedBy>
  <dcterms:modified xsi:type="dcterms:W3CDTF">2004-08-11T17:01:55Z</dcterms:modified>
  <cp:revision>8</cp:revision>
  <dc:subject/>
  <dc:title>National Sea Life Centre</dc:title>
</cp:coreProperties>
</file>