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5B7-C6B9-4765-B298-306B8711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1CF-221E-4889-BDC8-FA95B7F1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A20-4C88-4B60-AE29-FB784BBD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86E-823F-4718-854E-F0F412F5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BF95-6B24-4EA1-9187-ADE58C2D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4404-501C-4DEB-8354-7E1949BB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1C2F-1F39-44BF-805D-30F91C0E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B4B3-96D6-4CE1-84CE-1A05953F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783F-6B7E-4316-B019-7291269F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29B3-4BA0-4B70-A20A-717C7472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C17E-C88A-402B-B1CA-1932D0FF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984-9E42-4CC8-92DF-05BD3245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D8B9-413B-41E3-B72D-4FDD5AE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132D-A067-4580-A464-AB1BFEBE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0EB4-9461-4BC1-9CFC-083E6D6A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0D1D-3196-48D9-9588-5E2DF5B1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7526-5047-4D95-A8B5-642C4AE8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0D0-B4F4-4912-9142-3B0463D1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B9E-319C-4B69-A94C-76732AEE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380-7B9C-41A9-A256-AD500F6E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C5B-7199-41EC-A333-F4C81DE4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219-1292-469E-81BB-6EBFB3D0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003-9A2B-443E-B608-B36E5A1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481-EBD5-4CD2-A75E-A4F470B1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1034-9DB3-49C8-9415-F1A8F823BF5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BB01-FABB-43BB-84E0-85D2940BF893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ahoma"/>
              </a:rPr>
              <a:t>سيتم افتتاح الفروع ف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0" y="2204640"/>
            <a:ext cx="38098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ahoma"/>
              </a:rPr>
              <a:t>شارع الإتح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ahoma"/>
              </a:rPr>
              <a:t>شارع الأم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ww.elliott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645000"/>
            <a:ext cx="38098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ahoma"/>
              </a:rPr>
              <a:t>هي طريقة جديدة للاطلاع على الكتب وشرائ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ahoma"/>
              </a:rPr>
              <a:t>زوروا موقعنا على الشبكة العنكبية أو تفضلوا بزيارتنا في فرعنا الجد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تشكيلة واسعة من الكت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رابطة الكتاب وعروض خاص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مجموعات بح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ساعات قراءة للأطفا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9:12:47Z</dcterms:created>
  <dc:creator>nccworker</dc:creator>
  <dc:description/>
  <dc:language>en-US</dc:language>
  <cp:lastModifiedBy>MohdA</cp:lastModifiedBy>
  <dcterms:modified xsi:type="dcterms:W3CDTF">2004-08-09T16:36:30Z</dcterms:modified>
  <cp:revision>16</cp:revision>
  <dc:subject/>
  <dc:title>Elliotts Bookshop</dc:title>
</cp:coreProperties>
</file>