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087-28E2-4F4D-B62B-51903050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E84-87CA-40F2-8FF9-1B67280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90B-FB9E-42C9-8284-CE173EB5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FBB-FE60-4745-B85F-23F99015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12DE-2EF4-4596-978A-E1235FC9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D64A-D6C0-46B9-9EE9-291200C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2D2F-9416-4500-B637-48FBD18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3731-003D-49BF-A717-EDB19E2A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3A9-03F3-4C14-B6DE-657E9DF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9480-6993-40D0-8962-D6F26CD3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565-F566-4686-95DD-C2F09DA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15-D614-48D4-A522-5183CF47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83F-EEE4-4958-87C2-629E609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92A-D1EA-4BDC-B4C0-65A0223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C6F-243B-45E9-AC04-9146D6CE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0CF-C1D7-46A4-B592-B1B817E2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028-F326-477E-81FC-3437A473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25D-4070-4CC5-9B97-580429C0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E02-104A-489F-81F5-FEADB2E0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8D3-6F04-446C-B735-8A60DAA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D0A-B009-4D84-9CBD-0637A285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6E2-B1DF-407F-A324-890ED69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14D-D8FE-4A02-AB5A-24BB127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76D-66B0-4A4E-AFE7-E92C9AB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2F1-89EC-42D8-AB0B-D8151A2B024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C91-998E-4039-A995-F93D753F9F25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مركز المدين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هو المجمع الأفضل للتسوق، كما يعتبر مكاناً مسلياً لقضاء أوقات الفر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تبلغ مساحته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000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متر مرب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قع بالقرب من شارعين رئيسي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قع بالقرب من محطة القطار الرئيسية و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حطة الحافل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عتبر المجمع الأكبر في المنطقة و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حتوي على عدد كبير من المحلات التج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99"/>
                </a:solidFill>
                <a:latin typeface="Tahoma"/>
              </a:rPr>
              <a:t>الموقع</a:t>
            </a: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مرك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400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ح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يحتوي على مساحة تجري فيها مسابقات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يحتوي على أكثر من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طعم ومقه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صالة لعرض الافل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ضانتين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حديق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ساحة لعب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فندق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الة للياقة البد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حدي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يتكون هيكل البناء الأساسي      من الألمنيوم والزجاج              وفي أعلاه قبة زجاجية     خضراء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تحتوي الحديقة على مداخل عديدة لتسهيل دخول الزبائن كما يوجد مصاعد بداخل المجمع للمساعدة على الوصول إلى جميع الأدو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توجد ممرات تصل جميع أطراف الحديقة ببعضها البع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122480" cy="1255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ظه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مركز استعلام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مركز صرا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دليل تسو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خدمات للتسو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  عبر الانترن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رافات آ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قسم التطوي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شارع الوحد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ي الزه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 ب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5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4549323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001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للاستعل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:20</cp:lastModifiedBy>
  <dcterms:modified xsi:type="dcterms:W3CDTF">2004-10-28T09:23:49Z</dcterms:modified>
  <cp:revision>20</cp:revision>
  <dc:subject/>
  <dc:title>PowerPoint Presentation</dc:title>
</cp:coreProperties>
</file>