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9C4-AEF7-44C0-952F-138DABC8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D0B-825D-42E0-8596-7EAD89F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26E-CDA9-4153-AC59-A902B188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0FE-1BB6-446E-B5C9-D9B9FAC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618-EA60-4F2A-B3AC-F28C4BD8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008C-0C8A-4E76-A28A-F77877F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7C8-397E-4EA1-BB24-B2CB01D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D81-82D9-4065-A20A-E1954DD2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008-2DE4-43D5-A2DC-6D3DDB7E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E3C-C793-48B8-B64A-1F08E15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F6ED-584A-4084-9E02-4052529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8B1-F095-4940-9E69-B330736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DEA-4D31-4D74-ADA4-57FE226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336-716B-4212-AE2B-7EE7E0D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B07-9492-49C6-AE2F-CF24C6D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573-6545-4512-BD79-0B37036C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3E86-1C10-4582-B102-D6960246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017-AA33-411E-93C3-9828CEF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700-6072-418C-A1C0-1564DED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388-FBB0-4CD6-9BC3-F67C7DF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190-8B3A-4E6A-BC9B-70FD484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EEB-3577-41ED-AE65-A5A2B27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95D-E18D-433B-80BD-E7666E3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A3F-1FC1-48A8-B0F2-F4A8D53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3BD-80A2-4F83-9886-E7DAD0BE73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2AD-FC79-4B65-B74E-C30118434402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تجاه الأُط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رير السنوي للمبيعات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قتباس السنة الماض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دم هذه السن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رقام المبيع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مساهمة في الأرب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Wael</cp:lastModifiedBy>
  <dcterms:modified xsi:type="dcterms:W3CDTF">2004-08-02T23:16:17Z</dcterms:modified>
  <cp:revision>3</cp:revision>
  <dc:subject/>
  <dc:title>Windows Direct</dc:title>
</cp:coreProperties>
</file>